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2ED-785D-4F11-A084-1F480CD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7BC-FD25-420F-9455-7D8FE44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D13-1467-4706-9E27-B0E9523D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252-1336-4FF9-A684-BD1A0C3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DCE-2EDF-46A5-BC66-5EFD95C4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60B-3B39-4AE9-B55E-9B4336A9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60E-E848-4E0B-8857-508D26ED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950-8B73-4083-9698-7CF2B5F7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49E-6D5A-4047-BBFC-D13B8E6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B8F-48D7-462F-A58B-EA3CF2B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894-F747-49BB-A5DF-0B2D5E7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36B-72A5-411E-88DF-67BEF75F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3D4-57EE-4235-B20E-E0EDC5369F0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676520"/>
            <a:ext cx="6248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335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企业采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供应商专区 操作讲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590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590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SimSun"/>
                <a:ea typeface="SimSun"/>
              </a:rPr>
              <a:t>文件催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催发票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催投资抵减文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SimSun"/>
              </a:rPr>
              <a:t>档</a:t>
            </a: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1981080"/>
            <a:ext cx="2286000" cy="580680"/>
          </a:xfrm>
          <a:prstGeom prst="wedgeRectCallout">
            <a:avLst>
              <a:gd name="adj1" fmla="val -29657"/>
              <a:gd name="adj2" fmla="val 19423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催投资抵减文件函内容，有订购公司、跟催函编号、跟催明细及注意事项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809880"/>
            <a:ext cx="1676520" cy="337320"/>
          </a:xfrm>
          <a:prstGeom prst="wedgeRectCallout">
            <a:avLst>
              <a:gd name="adj1" fmla="val 71208"/>
              <a:gd name="adj2" fmla="val 40842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跟催明细中有材料编号、品名规格、订购编号、收料编号、到货日、交货地点及催告次数等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3962520"/>
            <a:ext cx="1447560" cy="580680"/>
          </a:xfrm>
          <a:prstGeom prst="wedgeRectCallout">
            <a:avLst>
              <a:gd name="adj1" fmla="val 76750"/>
              <a:gd name="adj2" fmla="val -4882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滚动条查看其余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2133720"/>
            <a:ext cx="1447920" cy="580680"/>
          </a:xfrm>
          <a:prstGeom prst="wedgeRectCallout">
            <a:avLst>
              <a:gd name="adj1" fmla="val 74879"/>
              <a:gd name="adj2" fmla="val 18141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查看完毕按下回主画面键或回清单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676520"/>
            <a:ext cx="6248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企业采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供应商专区 操作讲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86000"/>
            <a:ext cx="62481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货款查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汇款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货款付款进度查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3886200"/>
            <a:ext cx="1523880" cy="824040"/>
          </a:xfrm>
          <a:prstGeom prst="wedgeRectCallout">
            <a:avLst>
              <a:gd name="adj1" fmla="val -31675"/>
              <a:gd name="adj2" fmla="val -13126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货款查询有汇款通知货款付款进度查询两个子作业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4800600"/>
            <a:ext cx="1524240" cy="337320"/>
          </a:xfrm>
          <a:prstGeom prst="wedgeRectCallout">
            <a:avLst>
              <a:gd name="adj1" fmla="val 53847"/>
              <a:gd name="adj2" fmla="val -20554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汇款通知笔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886200"/>
            <a:ext cx="5335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362320"/>
            <a:ext cx="1600200" cy="337320"/>
          </a:xfrm>
          <a:prstGeom prst="wedgeRectCallout">
            <a:avLst>
              <a:gd name="adj1" fmla="val -81037"/>
              <a:gd name="adj2" fmla="val 14658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可以输入发票号码去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00600" y="2362320"/>
            <a:ext cx="1676520" cy="580680"/>
          </a:xfrm>
          <a:prstGeom prst="wedgeRectCallout">
            <a:avLst>
              <a:gd name="adj1" fmla="val -69962"/>
              <a:gd name="adj2" fmla="val 5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尚未检视的汇款通知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419720"/>
            <a:ext cx="1523880" cy="580680"/>
          </a:xfrm>
          <a:prstGeom prst="wedgeRectCallout">
            <a:avLst>
              <a:gd name="adj1" fmla="val 36750"/>
              <a:gd name="adj2" fmla="val -16877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429000"/>
            <a:ext cx="6858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562720" y="1447920"/>
            <a:ext cx="2666880" cy="580680"/>
          </a:xfrm>
          <a:prstGeom prst="wedgeRectCallout">
            <a:avLst>
              <a:gd name="adj1" fmla="val -73388"/>
              <a:gd name="adj2" fmla="val 11418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汇款通知内容，有受款人、汇款日期、汇款金额及帐号、汇款明细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72200" y="2362320"/>
            <a:ext cx="1066680" cy="580680"/>
          </a:xfrm>
          <a:prstGeom prst="wedgeRectCallout">
            <a:avLst>
              <a:gd name="adj1" fmla="val -59949"/>
              <a:gd name="adj2" fmla="val 11951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笔数已减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876920"/>
            <a:ext cx="1523880" cy="337320"/>
          </a:xfrm>
          <a:prstGeom prst="wedgeRectCallout">
            <a:avLst>
              <a:gd name="adj1" fmla="val 53847"/>
              <a:gd name="adj2" fmla="val -20554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汇款通知笔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396252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38480" y="609480"/>
            <a:ext cx="1676520" cy="337320"/>
          </a:xfrm>
          <a:prstGeom prst="wedgeRectCallout">
            <a:avLst>
              <a:gd name="adj1" fmla="val -50000"/>
              <a:gd name="adj2" fmla="val 27270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已检视的汇款通知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1143000"/>
            <a:ext cx="1295640" cy="337320"/>
          </a:xfrm>
          <a:prstGeom prst="wedgeRectCallout">
            <a:avLst>
              <a:gd name="adj1" fmla="val -44611"/>
              <a:gd name="adj2" fmla="val 22568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的日期时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581280"/>
            <a:ext cx="1523880" cy="580680"/>
          </a:xfrm>
          <a:prstGeom prst="wedgeRectCallout">
            <a:avLst>
              <a:gd name="adj1" fmla="val 48532"/>
              <a:gd name="adj2" fmla="val -11065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9548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29200" y="1219320"/>
            <a:ext cx="1905120" cy="337320"/>
          </a:xfrm>
          <a:prstGeom prst="wedgeRectCallout">
            <a:avLst>
              <a:gd name="adj1" fmla="val -36004"/>
              <a:gd name="adj2" fmla="val 26236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这是刚才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的汇款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09680"/>
            <a:ext cx="1066680" cy="580680"/>
          </a:xfrm>
          <a:prstGeom prst="wedgeRectCallout">
            <a:avLst>
              <a:gd name="adj1" fmla="val -41532"/>
              <a:gd name="adj2" fmla="val -11753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货款进度查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1430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514600"/>
            <a:ext cx="1981440" cy="580680"/>
          </a:xfrm>
          <a:prstGeom prst="wedgeRectCallout">
            <a:avLst>
              <a:gd name="adj1" fmla="val -52865"/>
              <a:gd name="adj2" fmla="val 9212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可以输入发票号码或订购编号去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800600"/>
            <a:ext cx="1981440" cy="580680"/>
          </a:xfrm>
          <a:prstGeom prst="wedgeRectCallout">
            <a:avLst>
              <a:gd name="adj1" fmla="val -29023"/>
              <a:gd name="adj2" fmla="val -1253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可以点选所有货款及未付货款查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114800"/>
            <a:ext cx="1523880" cy="337320"/>
          </a:xfrm>
          <a:prstGeom prst="wedgeRectCallout">
            <a:avLst>
              <a:gd name="adj1" fmla="val -32194"/>
              <a:gd name="adj2" fmla="val -24232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文件催交有催发票函、催投资抵减文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档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函两个子作业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76920"/>
            <a:ext cx="1752840" cy="337320"/>
          </a:xfrm>
          <a:prstGeom prst="wedgeRectCallout">
            <a:avLst>
              <a:gd name="adj1" fmla="val 47185"/>
              <a:gd name="adj2" fmla="val -18166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按下未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733920"/>
            <a:ext cx="533160" cy="761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86200" y="5029200"/>
            <a:ext cx="3505320" cy="337320"/>
          </a:xfrm>
          <a:prstGeom prst="wedgeRectCallout">
            <a:avLst>
              <a:gd name="adj1" fmla="val -38365"/>
              <a:gd name="adj2" fmla="val -24466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列出查询范围的货款清单，有订购厂商、订购编号、收料编号、发票号码、交货地点、到货日、实付金额、扣款金额及货款付款进度状态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4495680"/>
            <a:ext cx="1524240" cy="580680"/>
          </a:xfrm>
          <a:prstGeom prst="wedgeRectCallout">
            <a:avLst>
              <a:gd name="adj1" fmla="val 50398"/>
              <a:gd name="adj2" fmla="val -12787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3581280"/>
            <a:ext cx="8380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362320"/>
            <a:ext cx="1828800" cy="337320"/>
          </a:xfrm>
          <a:prstGeom prst="wedgeRectCallout">
            <a:avLst>
              <a:gd name="adj1" fmla="val -37074"/>
              <a:gd name="adj2" fmla="val 12782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催发票函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971800"/>
            <a:ext cx="1676520" cy="337320"/>
          </a:xfrm>
          <a:prstGeom prst="wedgeRectCallout">
            <a:avLst>
              <a:gd name="adj1" fmla="val 65518"/>
              <a:gd name="adj2" fmla="val 53219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跟催明细中有材料编号、品名规格、订购编号、收料编号、到货日、交货地点及催告次数等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676520"/>
            <a:ext cx="2514600" cy="580680"/>
          </a:xfrm>
          <a:prstGeom prst="wedgeRectCallout">
            <a:avLst>
              <a:gd name="adj1" fmla="val -43888"/>
              <a:gd name="adj2" fmla="val 15929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催发票函内容，有订购公司、跟催函编号、跟催明细及注意事项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352680"/>
            <a:ext cx="1600200" cy="337320"/>
          </a:xfrm>
          <a:prstGeom prst="wedgeRectCallout">
            <a:avLst>
              <a:gd name="adj1" fmla="val 50175"/>
              <a:gd name="adj2" fmla="val -13048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滚动条查看其余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4876920"/>
            <a:ext cx="1447560" cy="580680"/>
          </a:xfrm>
          <a:prstGeom prst="wedgeRectCallout">
            <a:avLst>
              <a:gd name="adj1" fmla="val 55564"/>
              <a:gd name="adj2" fmla="val 14788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查看完毕按下回主画面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5943600"/>
            <a:ext cx="10666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1905120"/>
            <a:ext cx="1523880" cy="580680"/>
          </a:xfrm>
          <a:prstGeom prst="wedgeRectCallout">
            <a:avLst>
              <a:gd name="adj1" fmla="val -48041"/>
              <a:gd name="adj2" fmla="val 131532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也可以输入跟催函编号查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66880"/>
            <a:ext cx="1676160" cy="337320"/>
          </a:xfrm>
          <a:prstGeom prst="wedgeRectCallout">
            <a:avLst>
              <a:gd name="adj1" fmla="val -69495"/>
              <a:gd name="adj2" fmla="val 10266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按下开始搜寻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2895480"/>
            <a:ext cx="11430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3400" y="2057400"/>
            <a:ext cx="1447920" cy="580680"/>
          </a:xfrm>
          <a:prstGeom prst="wedgeRectCallout">
            <a:avLst>
              <a:gd name="adj1" fmla="val -43888"/>
              <a:gd name="adj2" fmla="val 11920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搜寻到的催发票函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09880"/>
            <a:ext cx="1218960" cy="580680"/>
          </a:xfrm>
          <a:prstGeom prst="wedgeRectCallout">
            <a:avLst>
              <a:gd name="adj1" fmla="val -33231"/>
              <a:gd name="adj2" fmla="val -13612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催投资抵减文档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800"/>
            <a:ext cx="12193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4495680"/>
            <a:ext cx="1295280" cy="337320"/>
          </a:xfrm>
          <a:prstGeom prst="wedgeRectCallout">
            <a:avLst>
              <a:gd name="adj1" fmla="val 47662"/>
              <a:gd name="adj2" fmla="val -20053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这是已检视的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91320" y="3809880"/>
            <a:ext cx="4572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648320"/>
            <a:ext cx="1676160" cy="580680"/>
          </a:xfrm>
          <a:prstGeom prst="wedgeRectCallout">
            <a:avLst>
              <a:gd name="adj1" fmla="val 39671"/>
              <a:gd name="adj2" fmla="val -12558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直接点选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或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4876920"/>
            <a:ext cx="1371600" cy="337320"/>
          </a:xfrm>
          <a:prstGeom prst="wedgeRectCallout">
            <a:avLst>
              <a:gd name="adj1" fmla="val 56111"/>
              <a:gd name="adj2" fmla="val -29722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详细按键查看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1828800"/>
            <a:ext cx="1447920" cy="580680"/>
          </a:xfrm>
          <a:prstGeom prst="wedgeRectCallout">
            <a:avLst>
              <a:gd name="adj1" fmla="val -48361"/>
              <a:gd name="adj2" fmla="val 141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的催投资抵减文件函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358128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1:27:53Z</dcterms:created>
  <dc:creator>all user</dc:creator>
  <dc:description/>
  <dc:language>en-US</dc:language>
  <cp:lastModifiedBy>all user</cp:lastModifiedBy>
  <dcterms:modified xsi:type="dcterms:W3CDTF">2003-02-17T02:35:33Z</dcterms:modified>
  <cp:revision>20</cp:revision>
  <dc:subject/>
  <dc:title>PowerPoint 簡報</dc:title>
</cp:coreProperties>
</file>