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B79-FB21-4354-9231-D7EFBD99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D17-D837-4818-9D97-196AE6C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C3B-5B4F-4C60-934C-12DEAFF0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B9A-60B6-4D7F-A0A3-5FD78D49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BEE-62AA-4E06-8A86-659A1D66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E28-356F-4DC4-ABD3-E20B1BC6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141-3F91-481C-9946-656BA484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24D-94EC-43F9-9134-B3F9BAA8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869-C938-4B3A-A47C-1BCAE052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2DE-99BA-4987-9406-1E7BF91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5CB-D777-492D-96C6-DFFC415D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375-4DEB-4C9B-83CD-EA257FA8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51F-19D2-439D-8A80-7DC4A9DF892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676520"/>
            <a:ext cx="62485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SimSun"/>
                <a:ea typeface="SimSun"/>
              </a:rPr>
              <a:t>交货管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SimSun"/>
                <a:ea typeface="SimSun"/>
              </a:rPr>
              <a:t>催交通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SimSun"/>
                <a:ea typeface="SimSun"/>
              </a:rPr>
              <a:t>交货变更通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SimSun"/>
                <a:ea typeface="SimSun"/>
              </a:rPr>
              <a:t>交货提示通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SimSun"/>
                <a:ea typeface="SimSun"/>
              </a:rPr>
              <a:t>逾期交货扣款通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335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企业采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供应商专区 操作讲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343400" y="2133720"/>
            <a:ext cx="1905120" cy="580680"/>
          </a:xfrm>
          <a:prstGeom prst="wedgeRectCallout">
            <a:avLst>
              <a:gd name="adj1" fmla="val -55324"/>
              <a:gd name="adj2" fmla="val 8859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尚未检视的交货变更通知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4495680"/>
            <a:ext cx="1524240" cy="580680"/>
          </a:xfrm>
          <a:prstGeom prst="wedgeRectCallout">
            <a:avLst>
              <a:gd name="adj1" fmla="val 12384"/>
              <a:gd name="adj2" fmla="val -15037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320040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8320" y="685800"/>
            <a:ext cx="2666880" cy="580680"/>
          </a:xfrm>
          <a:prstGeom prst="wedgeRectCallout">
            <a:avLst>
              <a:gd name="adj1" fmla="val -66236"/>
              <a:gd name="adj2" fmla="val 9423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交货变更通知内容，有订购编号、订购公司、请购部门、订购明细等字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48520" y="1600200"/>
            <a:ext cx="1218960" cy="580680"/>
          </a:xfrm>
          <a:prstGeom prst="wedgeRectCallout">
            <a:avLst>
              <a:gd name="adj1" fmla="val -40643"/>
              <a:gd name="adj2" fmla="val 171745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输入同意修订知约交日及备注说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257800"/>
            <a:ext cx="1447920" cy="580680"/>
          </a:xfrm>
          <a:prstGeom prst="wedgeRectCallout">
            <a:avLst>
              <a:gd name="adj1" fmla="val 43412"/>
              <a:gd name="adj2" fmla="val 9051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要立即回复请按下回复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594360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72200" y="1828800"/>
            <a:ext cx="1676520" cy="580680"/>
          </a:xfrm>
          <a:prstGeom prst="wedgeRectCallout">
            <a:avLst>
              <a:gd name="adj1" fmla="val -60129"/>
              <a:gd name="adj2" fmla="val 10581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变更交货通知回复内容确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334120"/>
            <a:ext cx="1447920" cy="580680"/>
          </a:xfrm>
          <a:prstGeom prst="wedgeRectCallout">
            <a:avLst>
              <a:gd name="adj1" fmla="val 41324"/>
              <a:gd name="adj2" fmla="val 9051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要立即回复请按下确认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617220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76920" y="2362320"/>
            <a:ext cx="1523880" cy="580680"/>
          </a:xfrm>
          <a:prstGeom prst="wedgeRectCallout">
            <a:avLst>
              <a:gd name="adj1" fmla="val -42939"/>
              <a:gd name="adj2" fmla="val 1170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提示您将激活电子凭证签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4343400"/>
            <a:ext cx="1447920" cy="337320"/>
          </a:xfrm>
          <a:prstGeom prst="wedgeRectCallout">
            <a:avLst>
              <a:gd name="adj1" fmla="val -68069"/>
              <a:gd name="adj2" fmla="val -156606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按下一步键，就会进入使用电子凭证步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52680"/>
            <a:ext cx="99072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419720"/>
            <a:ext cx="1067040" cy="580680"/>
          </a:xfrm>
          <a:prstGeom prst="wedgeRectCallout">
            <a:avLst>
              <a:gd name="adj1" fmla="val -29495"/>
              <a:gd name="adj2" fmla="val -178064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交货提示通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76920" y="2362320"/>
            <a:ext cx="1523880" cy="580680"/>
          </a:xfrm>
          <a:prstGeom prst="wedgeRectCallout">
            <a:avLst>
              <a:gd name="adj1" fmla="val -81550"/>
              <a:gd name="adj2" fmla="val 7793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交货提示通知处理情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4495680"/>
            <a:ext cx="1295280" cy="337320"/>
          </a:xfrm>
          <a:prstGeom prst="wedgeRectCallout">
            <a:avLst>
              <a:gd name="adj1" fmla="val 30629"/>
              <a:gd name="adj2" fmla="val -204796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直接点选未检视数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581280"/>
            <a:ext cx="6094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19720" y="2209680"/>
            <a:ext cx="1904760" cy="580680"/>
          </a:xfrm>
          <a:prstGeom prst="wedgeRectCallout">
            <a:avLst>
              <a:gd name="adj1" fmla="val -63412"/>
              <a:gd name="adj2" fmla="val 10179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尚未检视的交货提示通知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724280"/>
            <a:ext cx="1524240" cy="580680"/>
          </a:xfrm>
          <a:prstGeom prst="wedgeRectCallout">
            <a:avLst>
              <a:gd name="adj1" fmla="val 45393"/>
              <a:gd name="adj2" fmla="val -208425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3505320"/>
            <a:ext cx="6858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43600" y="1752480"/>
            <a:ext cx="2666880" cy="580680"/>
          </a:xfrm>
          <a:prstGeom prst="wedgeRectCallout">
            <a:avLst>
              <a:gd name="adj1" fmla="val -56842"/>
              <a:gd name="adj2" fmla="val 22632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交货提示通知内容，有订购编号、订购公司、交货地点、交货提示等字段，本通知不必回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429000"/>
            <a:ext cx="1371600" cy="337320"/>
          </a:xfrm>
          <a:prstGeom prst="wedgeRectCallout">
            <a:avLst>
              <a:gd name="adj1" fmla="val -17148"/>
              <a:gd name="adj2" fmla="val -18955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逾期交货扣款通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15000" y="4724280"/>
            <a:ext cx="1676520" cy="580680"/>
          </a:xfrm>
          <a:prstGeom prst="wedgeRectCallout">
            <a:avLst>
              <a:gd name="adj1" fmla="val 51777"/>
              <a:gd name="adj2" fmla="val -14045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直接点选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未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或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数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3886200"/>
            <a:ext cx="6094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1752480"/>
            <a:ext cx="1600200" cy="337320"/>
          </a:xfrm>
          <a:prstGeom prst="wedgeRectCallout">
            <a:avLst>
              <a:gd name="adj1" fmla="val -46828"/>
              <a:gd name="adj2" fmla="val 26854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逾期交货扣款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处理情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781680" y="4495680"/>
            <a:ext cx="1524240" cy="580680"/>
          </a:xfrm>
          <a:prstGeom prst="wedgeRectCallout">
            <a:avLst>
              <a:gd name="adj1" fmla="val 12384"/>
              <a:gd name="adj2" fmla="val -15037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358128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133720"/>
            <a:ext cx="1523880" cy="337320"/>
          </a:xfrm>
          <a:prstGeom prst="wedgeRectCallout">
            <a:avLst>
              <a:gd name="adj1" fmla="val -45750"/>
              <a:gd name="adj2" fmla="val 20351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逾期扣款通知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8600" y="4572000"/>
            <a:ext cx="1676520" cy="337320"/>
          </a:xfrm>
          <a:prstGeom prst="wedgeRectCallout">
            <a:avLst>
              <a:gd name="adj1" fmla="val -37615"/>
              <a:gd name="adj2" fmla="val -19946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交货管理有催交通知、交货变更通知、交货提示通知及逾期交或扣款通知四个子作业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191120"/>
            <a:ext cx="533160" cy="761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5257800"/>
            <a:ext cx="1676520" cy="580680"/>
          </a:xfrm>
          <a:prstGeom prst="wedgeRectCallout">
            <a:avLst>
              <a:gd name="adj1" fmla="val 46388"/>
              <a:gd name="adj2" fmla="val -12286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已检视或未检视数字查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43400" y="304920"/>
            <a:ext cx="2590920" cy="337320"/>
          </a:xfrm>
          <a:prstGeom prst="wedgeRectCallout">
            <a:avLst>
              <a:gd name="adj1" fmla="val -51027"/>
              <a:gd name="adj2" fmla="val 36001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逾期交货扣款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通知内容，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通知单编号、扣款明细、经办人员数据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等字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267080" y="2057400"/>
            <a:ext cx="1676520" cy="337320"/>
          </a:xfrm>
          <a:prstGeom prst="wedgeRectCallout">
            <a:avLst>
              <a:gd name="adj1" fmla="val -58412"/>
              <a:gd name="adj2" fmla="val 24018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</a:t>
            </a:r>
            <a:r>
              <a:rPr b="1" lang="zh-TW" sz="1600" spc="-1" strike="noStrike">
                <a:solidFill>
                  <a:srgbClr val="cc0000"/>
                </a:solidFill>
                <a:latin typeface="SimSun"/>
              </a:rPr>
              <a:t>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的催交通知</a:t>
            </a:r>
            <a:r>
              <a:rPr b="1" lang="zh-TW" sz="1600" spc="-1" strike="noStrike">
                <a:solidFill>
                  <a:srgbClr val="cc0000"/>
                </a:solidFill>
                <a:latin typeface="SimSun"/>
              </a:rPr>
              <a:t>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447920"/>
            <a:ext cx="1676520" cy="580680"/>
          </a:xfrm>
          <a:prstGeom prst="wedgeRectCallout">
            <a:avLst>
              <a:gd name="adj1" fmla="val -6444"/>
              <a:gd name="adj2" fmla="val 19919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可以点选出</a:t>
            </a:r>
            <a:r>
              <a:rPr b="1" lang="zh-TW" sz="1600" spc="-1" strike="noStrike">
                <a:solidFill>
                  <a:srgbClr val="cc0000"/>
                </a:solidFill>
                <a:latin typeface="SimSun"/>
              </a:rPr>
              <a:t>未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或已回复的催交通知</a:t>
            </a:r>
            <a:r>
              <a:rPr b="1" lang="zh-TW" sz="1600" spc="-1" strike="noStrike">
                <a:solidFill>
                  <a:srgbClr val="cc0000"/>
                </a:solidFill>
                <a:latin typeface="SimSun"/>
              </a:rPr>
              <a:t>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3581280"/>
            <a:ext cx="60984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343400"/>
            <a:ext cx="1524240" cy="580680"/>
          </a:xfrm>
          <a:prstGeom prst="wedgeRectCallout">
            <a:avLst>
              <a:gd name="adj1" fmla="val 55402"/>
              <a:gd name="adj2" fmla="val -121249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800600" y="304920"/>
            <a:ext cx="2286000" cy="580680"/>
          </a:xfrm>
          <a:prstGeom prst="wedgeRectCallout">
            <a:avLst>
              <a:gd name="adj1" fmla="val -51384"/>
              <a:gd name="adj2" fmla="val 206625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催交通知内容，有订购编号、订购公司、请购部门、交货地点、催交明细等字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724280" y="2514600"/>
            <a:ext cx="1219320" cy="580680"/>
          </a:xfrm>
          <a:prstGeom prst="wedgeRectCallout">
            <a:avLst>
              <a:gd name="adj1" fmla="val 47106"/>
              <a:gd name="adj2" fmla="val 104148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确认肯定交货日及说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5638680"/>
            <a:ext cx="6094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495680"/>
            <a:ext cx="1447920" cy="580680"/>
          </a:xfrm>
          <a:prstGeom prst="wedgeRectCallout">
            <a:avLst>
              <a:gd name="adj1" fmla="val 44180"/>
              <a:gd name="adj2" fmla="val 16139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要立即回复请按下回复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09480" y="4572000"/>
            <a:ext cx="1447920" cy="580680"/>
          </a:xfrm>
          <a:prstGeom prst="wedgeRectCallout">
            <a:avLst>
              <a:gd name="adj1" fmla="val 47013"/>
              <a:gd name="adj2" fmla="val 147643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要立即回复请按下确认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228600"/>
            <a:ext cx="1447560" cy="580680"/>
          </a:xfrm>
          <a:prstGeom prst="wedgeRectCallout">
            <a:avLst>
              <a:gd name="adj1" fmla="val -55018"/>
              <a:gd name="adj2" fmla="val 13066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催交通知回复内容确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867280"/>
            <a:ext cx="6094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76920" y="2362320"/>
            <a:ext cx="1523880" cy="580680"/>
          </a:xfrm>
          <a:prstGeom prst="wedgeRectCallout">
            <a:avLst>
              <a:gd name="adj1" fmla="val -32194"/>
              <a:gd name="adj2" fmla="val 11127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提示您将激活电子凭证签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581280"/>
            <a:ext cx="8380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267080"/>
            <a:ext cx="1447560" cy="337320"/>
          </a:xfrm>
          <a:prstGeom prst="wedgeRectCallout">
            <a:avLst>
              <a:gd name="adj1" fmla="val 35277"/>
              <a:gd name="adj2" fmla="val -14583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按下一步键，就会进入使用电子凭证步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4038480"/>
            <a:ext cx="1143000" cy="337320"/>
          </a:xfrm>
          <a:prstGeom prst="wedgeRectCallout">
            <a:avLst>
              <a:gd name="adj1" fmla="val -22925"/>
              <a:gd name="adj2" fmla="val -28667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交货更改通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895480"/>
            <a:ext cx="990720" cy="455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1752480"/>
            <a:ext cx="1752840" cy="337320"/>
          </a:xfrm>
          <a:prstGeom prst="wedgeRectCallout">
            <a:avLst>
              <a:gd name="adj1" fmla="val -40949"/>
              <a:gd name="adj2" fmla="val 345199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可以输入订购编号及叫货批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429000"/>
            <a:ext cx="9144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5410080"/>
            <a:ext cx="1752840" cy="337320"/>
          </a:xfrm>
          <a:prstGeom prst="wedgeRectCallout">
            <a:avLst>
              <a:gd name="adj1" fmla="val -2629"/>
              <a:gd name="adj2" fmla="val -23581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也可以直接点选各项数字检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95480"/>
            <a:ext cx="1676160" cy="337320"/>
          </a:xfrm>
          <a:prstGeom prst="wedgeRectCallout">
            <a:avLst>
              <a:gd name="adj1" fmla="val -70055"/>
              <a:gd name="adj2" fmla="val 161083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按下开始搜寻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1:27:53Z</dcterms:created>
  <dc:creator>all user</dc:creator>
  <dc:description/>
  <dc:language>en-US</dc:language>
  <cp:lastModifiedBy>all user</cp:lastModifiedBy>
  <dcterms:modified xsi:type="dcterms:W3CDTF">2003-02-17T02:34:39Z</dcterms:modified>
  <cp:revision>20</cp:revision>
  <dc:subject/>
  <dc:title>PowerPoint 簡報</dc:title>
</cp:coreProperties>
</file>