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A955-9031-4CE0-922B-CB2AA3B3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B9E0-51B1-4844-B210-9540DBA4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8000-8596-45DE-9E5A-23FB3B5D8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938C-BDC6-4EDB-B92F-8DA2F29DE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27EE-939A-4887-B664-0BECE93B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0014-A189-4D67-838A-51AADD3F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DE71-3A49-413F-B4EE-1837A696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B447-5F8D-4AD8-9357-BA570C4A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350C-F126-4D41-BB18-DC0057FD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836E-4AB1-453D-BCAF-BE231518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EF0A-2B59-443E-B992-BFDAA3EE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3BFB-65B7-4261-8E3F-74DB6E9C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BE80-8A9B-4983-BB4B-290BAEF70331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676520"/>
            <a:ext cx="62485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220968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SimSun"/>
                <a:ea typeface="SimSun"/>
              </a:rPr>
              <a:t>订单管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ff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SimSun"/>
                <a:ea typeface="SimSun"/>
              </a:rPr>
              <a:t>订购通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ff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SimSun"/>
                <a:ea typeface="SimSun"/>
              </a:rPr>
              <a:t>分批配合交货通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533520"/>
            <a:ext cx="6172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SimSun"/>
              </a:rPr>
              <a:t>企业采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SimSun"/>
              </a:rPr>
              <a:t>供应商专区 操作讲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638680" y="2743200"/>
            <a:ext cx="1295640" cy="580680"/>
          </a:xfrm>
          <a:prstGeom prst="wedgeRectCallout">
            <a:avLst>
              <a:gd name="adj1" fmla="val -35055"/>
              <a:gd name="adj2" fmla="val 148263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日期设定完毕后，点选开始搜寻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114800" y="1676520"/>
            <a:ext cx="1295280" cy="580680"/>
          </a:xfrm>
          <a:prstGeom prst="wedgeRectCallout">
            <a:avLst>
              <a:gd name="adj1" fmla="val -52055"/>
              <a:gd name="adj2" fmla="val 156319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列出符合搜寻范围的订购通知清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8480" y="5105520"/>
            <a:ext cx="2057400" cy="824040"/>
          </a:xfrm>
          <a:prstGeom prst="wedgeRectCallout">
            <a:avLst>
              <a:gd name="adj1" fmla="val -41449"/>
              <a:gd name="adj2" fmla="val -93578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若是以约交日期进行搜寻，可选择依案件的交货地址或公司别排列清单顺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400800" y="2438280"/>
            <a:ext cx="1066680" cy="337320"/>
          </a:xfrm>
          <a:prstGeom prst="wedgeRectCallout">
            <a:avLst>
              <a:gd name="adj1" fmla="val -53708"/>
              <a:gd name="adj2" fmla="val 233685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按下开始搜寻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57800" y="3124080"/>
            <a:ext cx="129528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2057400"/>
            <a:ext cx="1523880" cy="337320"/>
          </a:xfrm>
          <a:prstGeom prst="wedgeRectCallout">
            <a:avLst>
              <a:gd name="adj1" fmla="val -39703"/>
              <a:gd name="adj2" fmla="val 202555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输入订购编号及交货批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505320"/>
            <a:ext cx="1371600" cy="824040"/>
          </a:xfrm>
          <a:prstGeom prst="wedgeRectCallout">
            <a:avLst>
              <a:gd name="adj1" fmla="val 90379"/>
              <a:gd name="adj2" fmla="val 7903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分批配合交货通知检视方法与订购通知相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191120" y="1752480"/>
            <a:ext cx="1295280" cy="580680"/>
          </a:xfrm>
          <a:prstGeom prst="wedgeRectCallout">
            <a:avLst>
              <a:gd name="adj1" fmla="val -48916"/>
              <a:gd name="adj2" fmla="val 157245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列出搜寻结果分批交货通知清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4343400"/>
            <a:ext cx="1523880" cy="337320"/>
          </a:xfrm>
          <a:prstGeom prst="wedgeRectCallout">
            <a:avLst>
              <a:gd name="adj1" fmla="val 39560"/>
              <a:gd name="adj2" fmla="val -234648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按下详细查看通知内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3352680"/>
            <a:ext cx="76212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800600" y="457200"/>
            <a:ext cx="2057400" cy="337320"/>
          </a:xfrm>
          <a:prstGeom prst="wedgeRectCallout">
            <a:avLst>
              <a:gd name="adj1" fmla="val -79162"/>
              <a:gd name="adj2" fmla="val 20874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分批配合交货通知内有订购编号、叫货批次、订购公司、请购部门、交货地点、叫货明细等字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5120" y="463320"/>
            <a:ext cx="3962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8600" y="3962520"/>
            <a:ext cx="1676520" cy="824040"/>
          </a:xfrm>
          <a:prstGeom prst="wedgeRectCallout">
            <a:avLst>
              <a:gd name="adj1" fmla="val -28791"/>
              <a:gd name="adj2" fmla="val -136416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订单管理作业有订购通知及分批配合交货通知两个子作业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24480" y="4800600"/>
            <a:ext cx="1219320" cy="580680"/>
          </a:xfrm>
          <a:prstGeom prst="wedgeRectCallout">
            <a:avLst>
              <a:gd name="adj1" fmla="val -61449"/>
              <a:gd name="adj2" fmla="val 135870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直接点选未检视数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5791320"/>
            <a:ext cx="60948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419720" y="2209680"/>
            <a:ext cx="1600200" cy="337320"/>
          </a:xfrm>
          <a:prstGeom prst="wedgeRectCallout">
            <a:avLst>
              <a:gd name="adj1" fmla="val -81439"/>
              <a:gd name="adj2" fmla="val 148078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列出未检视订购通知清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19920" y="4495680"/>
            <a:ext cx="1523880" cy="580680"/>
          </a:xfrm>
          <a:prstGeom prst="wedgeRectCallout">
            <a:avLst>
              <a:gd name="adj1" fmla="val 63319"/>
              <a:gd name="adj2" fmla="val -189152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按下详细查看订购通知内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43800" y="3352680"/>
            <a:ext cx="76212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724280" y="2666880"/>
            <a:ext cx="1600200" cy="337320"/>
          </a:xfrm>
          <a:prstGeom prst="wedgeRectCallout">
            <a:avLst>
              <a:gd name="adj1" fmla="val -41476"/>
              <a:gd name="adj2" fmla="val 29253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列出订购通知详细内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91520" y="3429000"/>
            <a:ext cx="1371600" cy="580680"/>
          </a:xfrm>
          <a:prstGeom prst="wedgeRectCallout">
            <a:avLst>
              <a:gd name="adj1" fmla="val 66662"/>
              <a:gd name="adj2" fmla="val -211893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拉动滚动条查看其它数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486400" y="304920"/>
            <a:ext cx="2057400" cy="337320"/>
          </a:xfrm>
          <a:prstGeom prst="wedgeRectCallout">
            <a:avLst>
              <a:gd name="adj1" fmla="val -57013"/>
              <a:gd name="adj2" fmla="val 433365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订购通知内有订购编号、采购类别、订购公司数据、交货地点、订购明细等字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62920" y="5181480"/>
            <a:ext cx="1371600" cy="580680"/>
          </a:xfrm>
          <a:prstGeom prst="wedgeRectCallout">
            <a:avLst>
              <a:gd name="adj1" fmla="val 81120"/>
              <a:gd name="adj2" fmla="val -152351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拉动滚动条查看其它数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3520" y="4419720"/>
            <a:ext cx="1143000" cy="580680"/>
          </a:xfrm>
          <a:prstGeom prst="wedgeRectCallout">
            <a:avLst>
              <a:gd name="adj1" fmla="val 66935"/>
              <a:gd name="adj2" fmla="val -102351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按下回主画面按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3733920"/>
            <a:ext cx="114300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867280" y="2666880"/>
            <a:ext cx="1295640" cy="580680"/>
          </a:xfrm>
          <a:prstGeom prst="wedgeRectCallout">
            <a:avLst>
              <a:gd name="adj1" fmla="val -94722"/>
              <a:gd name="adj2" fmla="val 75212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输入订购编号点选开始搜寻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3124080"/>
            <a:ext cx="106668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24480" y="4038480"/>
            <a:ext cx="2133720" cy="337320"/>
          </a:xfrm>
          <a:prstGeom prst="wedgeRectCallout">
            <a:avLst>
              <a:gd name="adj1" fmla="val -75805"/>
              <a:gd name="adj2" fmla="val 30916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除了用订购编号，还能利用询价案号、订购日期范围、约交日期范围来搜寻特定案件的订购通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267080" y="1981080"/>
            <a:ext cx="1295640" cy="580680"/>
          </a:xfrm>
          <a:prstGeom prst="wedgeRectCallout">
            <a:avLst>
              <a:gd name="adj1" fmla="val -44138"/>
              <a:gd name="adj2" fmla="val 112949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搜寻出特定的订购通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72000" y="3200400"/>
            <a:ext cx="2209680" cy="580680"/>
          </a:xfrm>
          <a:prstGeom prst="wedgeRectCallout">
            <a:avLst>
              <a:gd name="adj1" fmla="val -76208"/>
              <a:gd name="adj2" fmla="val 83143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若想利用订购日期来搜寻订购通知，点选选择钮选择日期范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3733920"/>
            <a:ext cx="76176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3T01:27:53Z</dcterms:created>
  <dc:creator>all user</dc:creator>
  <dc:description/>
  <dc:language>en-US</dc:language>
  <cp:lastModifiedBy>all user</cp:lastModifiedBy>
  <dcterms:modified xsi:type="dcterms:W3CDTF">2003-02-17T02:33:37Z</dcterms:modified>
  <cp:revision>20</cp:revision>
  <dc:subject/>
  <dc:title>PowerPoint 簡報</dc:title>
</cp:coreProperties>
</file>