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EC6D-A565-437D-8508-EB05DD84F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DC13-7C30-4661-BFC9-F2A31205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715D-5DDD-4455-948B-31BF8B58C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370F-9C1F-45B6-9D48-20D0E9CF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D0A0-B10C-4A34-A7BF-5FD814AB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B5B6-EEE1-44BB-8A54-617DFC5F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1C6E-2FE3-4B1B-B486-8B8454DB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EDA6-5284-489D-8EA3-CE0839CB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C9AA-61DA-4416-A1A0-7A49C4C8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924A-15A7-4D0E-A0A3-C06A0AF4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B2C5-097E-4B6B-805D-CEA74968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8928-50CC-4F6B-B59F-7BEE08920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2534-A166-4B2F-A1B8-E54FC1B19102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簡介版面-1" descr=""/>
          <p:cNvPicPr/>
          <p:nvPr/>
        </p:nvPicPr>
        <p:blipFill>
          <a:blip r:embed="rId1"/>
          <a:stretch/>
        </p:blipFill>
        <p:spPr>
          <a:xfrm>
            <a:off x="-14400" y="0"/>
            <a:ext cx="9172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1447920" y="19810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標楷體"/>
                <a:ea typeface="SimSun"/>
              </a:rPr>
              <a:t>领投标</a:t>
            </a:r>
            <a:r>
              <a:rPr b="0" lang="zh-CN" sz="6000" spc="-1" strike="noStrike">
                <a:solidFill>
                  <a:srgbClr val="ffff00"/>
                </a:solidFill>
                <a:latin typeface="Times New Roman"/>
                <a:ea typeface="SimSun"/>
              </a:rPr>
              <a:t>  </a:t>
            </a:r>
            <a:r>
              <a:rPr b="0" lang="zh-CN" sz="6000" spc="-1" strike="noStrike">
                <a:solidFill>
                  <a:srgbClr val="ffff00"/>
                </a:solidFill>
                <a:latin typeface="標楷體"/>
                <a:ea typeface="SimSun"/>
              </a:rPr>
              <a:t>议价作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00"/>
                </a:solidFill>
                <a:latin typeface="標楷體"/>
                <a:ea typeface="標楷體"/>
              </a:rPr>
              <a:t> </a:t>
            </a:r>
            <a:r>
              <a:rPr b="0" lang="zh-CN" sz="5400" spc="-1" strike="noStrike">
                <a:solidFill>
                  <a:srgbClr val="ffff00"/>
                </a:solidFill>
                <a:latin typeface="標楷體"/>
                <a:ea typeface="SimSun"/>
              </a:rPr>
              <a:t>一般采购案议价</a:t>
            </a:r>
            <a:r>
              <a:rPr b="0" lang="zh-TW" sz="5400" spc="-1" strike="noStrike">
                <a:solidFill>
                  <a:srgbClr val="ffff00"/>
                </a:solidFill>
                <a:latin typeface="Times New Roman"/>
                <a:ea typeface="標楷體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533520"/>
            <a:ext cx="6477120" cy="1143000"/>
            <a:chOff x="0" y="533520"/>
            <a:chExt cx="6477120" cy="1143000"/>
          </a:xfrm>
        </p:grpSpPr>
        <p:sp>
          <p:nvSpPr>
            <p:cNvPr id="44" name=""/>
            <p:cNvSpPr/>
            <p:nvPr/>
          </p:nvSpPr>
          <p:spPr>
            <a:xfrm>
              <a:off x="0" y="1676520"/>
              <a:ext cx="624852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4920" y="533520"/>
              <a:ext cx="6172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企业采购</a:t>
              </a:r>
              <a:r>
                <a:rPr b="0" lang="zh-TW" sz="44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供应商</a:t>
              </a:r>
              <a:r>
                <a:rPr b="0" lang="zh-CN" sz="44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专区</a:t>
              </a:r>
              <a:r>
                <a:rPr b="0" lang="zh-CN" sz="4400" spc="-1" strike="noStrike">
                  <a:solidFill>
                    <a:srgbClr val="ffffff"/>
                  </a:solidFill>
                  <a:latin typeface="標楷體"/>
                  <a:ea typeface="SimSun"/>
                </a:rPr>
                <a:t> </a:t>
              </a:r>
              <a:r>
                <a:rPr b="0" lang="zh-CN" sz="44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操作讲解</a:t>
              </a:r>
              <a:r>
                <a:rPr b="0" lang="zh-TW" sz="4400" spc="-1" strike="noStrike">
                  <a:solidFill>
                    <a:srgbClr val="ffffff"/>
                  </a:solidFill>
                  <a:latin typeface="標楷體"/>
                  <a:ea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705720" y="2514600"/>
            <a:ext cx="1371600" cy="580680"/>
          </a:xfrm>
          <a:prstGeom prst="wedgeRectCallout">
            <a:avLst>
              <a:gd name="adj1" fmla="val 21870"/>
              <a:gd name="adj2" fmla="val 15290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已</a:t>
            </a: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检视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笔数减少，已回复数据增加</a:t>
            </a:r>
            <a:r>
              <a:rPr b="1" lang="zh-TW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324480" y="4800600"/>
            <a:ext cx="1447920" cy="824040"/>
          </a:xfrm>
          <a:prstGeom prst="wedgeRectCallout">
            <a:avLst>
              <a:gd name="adj1" fmla="val 46916"/>
              <a:gd name="adj2" fmla="val -109912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点下已回复数字，可以查看回复数据或重新议价</a:t>
            </a:r>
            <a:r>
              <a:rPr b="1" lang="zh-TW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96080" y="3809880"/>
            <a:ext cx="38124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095880" y="4495680"/>
            <a:ext cx="1295640" cy="580680"/>
          </a:xfrm>
          <a:prstGeom prst="wedgeRectCallout">
            <a:avLst>
              <a:gd name="adj1" fmla="val 53777"/>
              <a:gd name="adj2" fmla="val -160902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按详细键，查看已回复的议价数据</a:t>
            </a:r>
            <a:r>
              <a:rPr b="1" lang="zh-TW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3429000"/>
            <a:ext cx="60948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248520" y="4648320"/>
            <a:ext cx="1066680" cy="337320"/>
          </a:xfrm>
          <a:prstGeom prst="wedgeRectCallout">
            <a:avLst>
              <a:gd name="adj1" fmla="val 69462"/>
              <a:gd name="adj2" fmla="val -184324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点选再次议价键</a:t>
            </a:r>
            <a:r>
              <a:rPr b="1" lang="zh-TW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91520" y="3809880"/>
            <a:ext cx="990360" cy="381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34120" y="1523880"/>
            <a:ext cx="1676160" cy="580680"/>
          </a:xfrm>
          <a:prstGeom prst="wedgeRectCallout">
            <a:avLst>
              <a:gd name="adj1" fmla="val -60111"/>
              <a:gd name="adj2" fmla="val 148263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显示原议价函内容，可以修改后再签章上传</a:t>
            </a:r>
            <a:r>
              <a:rPr b="1" lang="zh-TW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母片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90720" y="21337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標楷體"/>
                <a:ea typeface="SimSun"/>
              </a:rPr>
              <a:t>领投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標楷體"/>
                <a:ea typeface="SimSun"/>
              </a:rPr>
              <a:t> </a:t>
            </a:r>
            <a:r>
              <a:rPr b="0" lang="zh-CN" sz="5400" spc="-1" strike="noStrike">
                <a:solidFill>
                  <a:srgbClr val="ffff00"/>
                </a:solidFill>
                <a:latin typeface="標楷體"/>
                <a:ea typeface="SimSun"/>
              </a:rPr>
              <a:t>报价完成通知</a:t>
            </a:r>
            <a:r>
              <a:rPr b="0" lang="zh-TW" sz="5400" spc="-1" strike="noStrike">
                <a:solidFill>
                  <a:srgbClr val="ffff00"/>
                </a:solidFill>
                <a:latin typeface="標楷體"/>
                <a:ea typeface="SimSu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標楷體"/>
                <a:ea typeface="SimSun"/>
              </a:rPr>
              <a:t> </a:t>
            </a:r>
            <a:r>
              <a:rPr b="0" lang="zh-CN" sz="5400" spc="-1" strike="noStrike">
                <a:solidFill>
                  <a:srgbClr val="ffff00"/>
                </a:solidFill>
                <a:latin typeface="標楷體"/>
                <a:ea typeface="SimSun"/>
              </a:rPr>
              <a:t>询价撤销通知</a:t>
            </a:r>
            <a:r>
              <a:rPr b="0" lang="zh-TW" sz="5400" spc="-1" strike="noStrike">
                <a:solidFill>
                  <a:srgbClr val="ffff00"/>
                </a:solidFill>
                <a:latin typeface="標楷體"/>
                <a:ea typeface="SimSu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標楷體"/>
                <a:ea typeface="SimSun"/>
              </a:rPr>
              <a:t> </a:t>
            </a:r>
            <a:r>
              <a:rPr b="0" lang="zh-CN" sz="5400" spc="-1" strike="noStrike">
                <a:solidFill>
                  <a:srgbClr val="ffff00"/>
                </a:solidFill>
                <a:latin typeface="標楷體"/>
                <a:ea typeface="SimSun"/>
              </a:rPr>
              <a:t>未中标通知</a:t>
            </a:r>
            <a:r>
              <a:rPr b="0" lang="zh-TW" sz="5400" spc="-1" strike="noStrike">
                <a:solidFill>
                  <a:srgbClr val="ffff00"/>
                </a:solidFill>
                <a:latin typeface="標楷體"/>
                <a:ea typeface="SimSun"/>
              </a:rPr>
              <a:t> </a:t>
            </a:r>
            <a:r>
              <a:rPr b="0" lang="zh-TW" sz="6000" spc="-1" strike="noStrike">
                <a:solidFill>
                  <a:srgbClr val="ffff00"/>
                </a:solidFill>
                <a:latin typeface="SimSun"/>
                <a:ea typeface="SimSu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0" y="533520"/>
            <a:ext cx="6477120" cy="1143000"/>
            <a:chOff x="0" y="533520"/>
            <a:chExt cx="6477120" cy="1143000"/>
          </a:xfrm>
        </p:grpSpPr>
        <p:sp>
          <p:nvSpPr>
            <p:cNvPr id="92" name=""/>
            <p:cNvSpPr/>
            <p:nvPr/>
          </p:nvSpPr>
          <p:spPr>
            <a:xfrm>
              <a:off x="0" y="1676520"/>
              <a:ext cx="624852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533520"/>
              <a:ext cx="61722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企业采购</a:t>
              </a:r>
              <a:r>
                <a:rPr b="0" lang="zh-TW" sz="44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供应商</a:t>
              </a:r>
              <a:r>
                <a:rPr b="0" lang="zh-CN" sz="44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专区</a:t>
              </a:r>
              <a:r>
                <a:rPr b="0" lang="zh-CN" sz="4400" spc="-1" strike="noStrike">
                  <a:solidFill>
                    <a:srgbClr val="ffffff"/>
                  </a:solidFill>
                  <a:latin typeface="標楷體"/>
                  <a:ea typeface="SimSun"/>
                </a:rPr>
                <a:t> </a:t>
              </a:r>
              <a:r>
                <a:rPr b="0" lang="zh-CN" sz="4400" spc="-1" strike="noStrike">
                  <a:solidFill>
                    <a:srgbClr val="ffffff"/>
                  </a:solidFill>
                  <a:latin typeface="SimSun"/>
                  <a:ea typeface="SimSun"/>
                </a:rPr>
                <a:t>操作讲解</a:t>
              </a:r>
              <a:r>
                <a:rPr b="0" lang="zh-TW" sz="4400" spc="-1" strike="noStrike">
                  <a:solidFill>
                    <a:srgbClr val="ffffff"/>
                  </a:solidFill>
                  <a:latin typeface="標楷體"/>
                  <a:ea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02-領投標1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828800" y="4800600"/>
            <a:ext cx="1828800" cy="337320"/>
          </a:xfrm>
          <a:prstGeom prst="wedgeRectCallout">
            <a:avLst>
              <a:gd name="adj1" fmla="val -93731"/>
              <a:gd name="adj2" fmla="val -18550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领投标另有报价完成通知、询价撤销通知与未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中标</a:t>
            </a: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通知三个子作业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5680" y="2057400"/>
            <a:ext cx="1219320" cy="580680"/>
          </a:xfrm>
          <a:prstGeom prst="wedgeRectCallout">
            <a:avLst>
              <a:gd name="adj1" fmla="val -89430"/>
              <a:gd name="adj2" fmla="val 127384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可以输入询价案号搜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53080" y="5257800"/>
            <a:ext cx="1219320" cy="580680"/>
          </a:xfrm>
          <a:prstGeom prst="wedgeRectCallout">
            <a:avLst>
              <a:gd name="adj1" fmla="val 34736"/>
              <a:gd name="adj2" fmla="val -184939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直接点选</a:t>
            </a:r>
            <a:r>
              <a:rPr b="1" lang="zh-TW" sz="1600" spc="-1" strike="noStrike">
                <a:solidFill>
                  <a:srgbClr val="cc0000"/>
                </a:solidFill>
                <a:latin typeface="SimSun"/>
              </a:rPr>
              <a:t>已</a:t>
            </a: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检视数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3733920"/>
            <a:ext cx="533160" cy="7617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343400"/>
            <a:ext cx="914400" cy="380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02-領投標13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419720" y="2133720"/>
            <a:ext cx="2286000" cy="337320"/>
          </a:xfrm>
          <a:prstGeom prst="wedgeRectCallout">
            <a:avLst>
              <a:gd name="adj1" fmla="val -48064"/>
              <a:gd name="adj2" fmla="val 14658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显示报价完成通知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列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4724280"/>
            <a:ext cx="1524240" cy="580680"/>
          </a:xfrm>
          <a:prstGeom prst="wedgeRectCallout">
            <a:avLst>
              <a:gd name="adj1" fmla="val 43314"/>
              <a:gd name="adj2" fmla="val -206129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点选详细按键查看通知内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3429000"/>
            <a:ext cx="76212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02-領投標1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876920" y="2438280"/>
            <a:ext cx="2361960" cy="580680"/>
          </a:xfrm>
          <a:prstGeom prst="wedgeRectCallout">
            <a:avLst>
              <a:gd name="adj1" fmla="val -45703"/>
              <a:gd name="adj2" fmla="val 187046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显示采购商已经收到贵公司报价的询价案号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5562720"/>
            <a:ext cx="1066680" cy="580680"/>
          </a:xfrm>
          <a:prstGeom prst="wedgeRectCallout">
            <a:avLst>
              <a:gd name="adj1" fmla="val -44976"/>
              <a:gd name="adj2" fmla="val -145041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点选询价撤销通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648320"/>
            <a:ext cx="106668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31詢撤通知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648320" y="1981080"/>
            <a:ext cx="1218960" cy="580680"/>
          </a:xfrm>
          <a:prstGeom prst="wedgeRectCallout">
            <a:avLst>
              <a:gd name="adj1" fmla="val -71995"/>
              <a:gd name="adj2" fmla="val 112388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可以输入询价案号搜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15000" y="3581280"/>
            <a:ext cx="609480" cy="7621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2520" y="4876920"/>
            <a:ext cx="1828800" cy="580680"/>
          </a:xfrm>
          <a:prstGeom prst="wedgeRectCallout">
            <a:avLst>
              <a:gd name="adj1" fmla="val 52240"/>
              <a:gd name="adj2" fmla="val -158731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如有询价撤销案笔数</a:t>
            </a:r>
            <a:r>
              <a:rPr b="1" lang="zh-TW" sz="1600" spc="-1" strike="noStrike">
                <a:solidFill>
                  <a:srgbClr val="cc0000"/>
                </a:solidFill>
                <a:latin typeface="SimSun"/>
              </a:rPr>
              <a:t>，</a:t>
            </a: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可直接点选未检视数字搜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2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66680" y="4952880"/>
            <a:ext cx="1828800" cy="337320"/>
          </a:xfrm>
          <a:prstGeom prst="wedgeRectCallout">
            <a:avLst>
              <a:gd name="adj1" fmla="val -47837"/>
              <a:gd name="adj2" fmla="val -310976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领投标议价作业有一般采购案议价与合约采购案议价两个子作业项</a:t>
            </a:r>
            <a:r>
              <a:rPr b="1" lang="zh-TW" sz="1600" spc="-1" strike="noStrike">
                <a:solidFill>
                  <a:srgbClr val="cc0000"/>
                </a:solidFill>
                <a:latin typeface="Times New Roman"/>
                <a:ea typeface="細明體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57800" y="1981080"/>
            <a:ext cx="1219320" cy="580680"/>
          </a:xfrm>
          <a:prstGeom prst="wedgeRectCallout">
            <a:avLst>
              <a:gd name="adj1" fmla="val -81106"/>
              <a:gd name="adj2" fmla="val 99004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可以输入询价案号搜寻</a:t>
            </a:r>
            <a:r>
              <a:rPr b="1" lang="zh-TW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10080" y="5105520"/>
            <a:ext cx="1219320" cy="580680"/>
          </a:xfrm>
          <a:prstGeom prst="wedgeRectCallout">
            <a:avLst>
              <a:gd name="adj1" fmla="val 30722"/>
              <a:gd name="adj2" fmla="val -15321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直接点选已</a:t>
            </a: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检视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数字</a:t>
            </a:r>
            <a:r>
              <a:rPr b="1" lang="zh-TW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24480" y="3733920"/>
            <a:ext cx="457200" cy="834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315200" y="3429000"/>
            <a:ext cx="99072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43600" y="4191120"/>
            <a:ext cx="1523880" cy="580680"/>
          </a:xfrm>
          <a:prstGeom prst="wedgeRectCallout">
            <a:avLst>
              <a:gd name="adj1" fmla="val 48416"/>
              <a:gd name="adj2" fmla="val -127259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点选详细按键查看通知内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3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371600" y="5410080"/>
            <a:ext cx="1143000" cy="337320"/>
          </a:xfrm>
          <a:prstGeom prst="wedgeRectCallout">
            <a:avLst>
              <a:gd name="adj1" fmla="val -88189"/>
              <a:gd name="adj2" fmla="val -102662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点选未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中标</a:t>
            </a: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通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5029200"/>
            <a:ext cx="99072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1981080"/>
            <a:ext cx="1752480" cy="580680"/>
          </a:xfrm>
          <a:prstGeom prst="wedgeRectCallout">
            <a:avLst>
              <a:gd name="adj1" fmla="val -56240"/>
              <a:gd name="adj2" fmla="val 155324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显示采购商已经撤销此询价案</a:t>
            </a:r>
            <a:r>
              <a:rPr b="1" lang="zh-TW" sz="1600" spc="-1" strike="noStrike">
                <a:solidFill>
                  <a:srgbClr val="cc0000"/>
                </a:solidFill>
                <a:latin typeface="SimSun"/>
              </a:rPr>
              <a:t>，</a:t>
            </a: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本通知不必回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02-領投標13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800600" y="1981080"/>
            <a:ext cx="1219320" cy="580680"/>
          </a:xfrm>
          <a:prstGeom prst="wedgeRectCallout">
            <a:avLst>
              <a:gd name="adj1" fmla="val -42861"/>
              <a:gd name="adj2" fmla="val 113504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可以输入询价案号搜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91520" y="3733920"/>
            <a:ext cx="533160" cy="91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4648320"/>
            <a:ext cx="1218960" cy="580680"/>
          </a:xfrm>
          <a:prstGeom prst="wedgeRectCallout">
            <a:avLst>
              <a:gd name="adj1" fmla="val 56495"/>
              <a:gd name="adj2" fmla="val -121870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点选未</a:t>
            </a: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检视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或已</a:t>
            </a: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检视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数字查看</a:t>
            </a:r>
            <a:r>
              <a:rPr b="1" lang="zh-TW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02-領投標13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495680" y="2133720"/>
            <a:ext cx="2286000" cy="337320"/>
          </a:xfrm>
          <a:prstGeom prst="wedgeRectCallout">
            <a:avLst>
              <a:gd name="adj1" fmla="val -48064"/>
              <a:gd name="adj2" fmla="val 14658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显示未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中标</a:t>
            </a: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通知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列表</a:t>
            </a:r>
            <a:r>
              <a:rPr b="1" lang="zh-TW" sz="1600" spc="-1" strike="noStrike">
                <a:solidFill>
                  <a:srgbClr val="cc0000"/>
                </a:solidFill>
                <a:latin typeface="SimSun"/>
                <a:ea typeface="SimSu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4419720"/>
            <a:ext cx="1524240" cy="580680"/>
          </a:xfrm>
          <a:prstGeom prst="wedgeRectCallout">
            <a:avLst>
              <a:gd name="adj1" fmla="val 37791"/>
              <a:gd name="adj2" fmla="val -147768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点选详细按键查看通知内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91520" y="3505320"/>
            <a:ext cx="685800" cy="4572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02-領投標13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419720" y="1523880"/>
            <a:ext cx="2133360" cy="580680"/>
          </a:xfrm>
          <a:prstGeom prst="wedgeRectCallout">
            <a:avLst>
              <a:gd name="adj1" fmla="val -40638"/>
              <a:gd name="adj2" fmla="val 10581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显示未</a:t>
            </a: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中标</a:t>
            </a:r>
            <a:r>
              <a:rPr b="1" lang="zh-CN" sz="1600" spc="-1" strike="noStrike">
                <a:solidFill>
                  <a:srgbClr val="cc0000"/>
                </a:solidFill>
                <a:latin typeface="SimSun"/>
                <a:ea typeface="SimSun"/>
              </a:rPr>
              <a:t>通知内容，本通知不必回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705720" y="4952880"/>
            <a:ext cx="1066680" cy="580680"/>
          </a:xfrm>
          <a:prstGeom prst="wedgeRectCallout">
            <a:avLst>
              <a:gd name="adj1" fmla="val 46861"/>
              <a:gd name="adj2" fmla="val -185064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直接点选议价按键</a:t>
            </a:r>
            <a:r>
              <a:rPr b="1" lang="zh-TW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91520" y="3657600"/>
            <a:ext cx="68580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2286000"/>
            <a:ext cx="1981080" cy="337320"/>
          </a:xfrm>
          <a:prstGeom prst="wedgeRectCallout">
            <a:avLst>
              <a:gd name="adj1" fmla="val -44967"/>
              <a:gd name="adj2" fmla="val 157888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显示议价案件列表</a:t>
            </a:r>
            <a:r>
              <a:rPr b="1" lang="zh-TW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2666880"/>
            <a:ext cx="1447560" cy="580680"/>
          </a:xfrm>
          <a:prstGeom prst="wedgeRectCallout">
            <a:avLst>
              <a:gd name="adj1" fmla="val 92314"/>
              <a:gd name="adj2" fmla="val 10717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选择议价金额之修订方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4572000"/>
            <a:ext cx="1523880" cy="337320"/>
          </a:xfrm>
          <a:prstGeom prst="wedgeRectCallout">
            <a:avLst>
              <a:gd name="adj1" fmla="val 82282"/>
              <a:gd name="adj2" fmla="val 40828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选择交货日数之修订方式</a:t>
            </a:r>
            <a:r>
              <a:rPr b="1" lang="zh-TW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15200" y="3733920"/>
            <a:ext cx="1447920" cy="580680"/>
          </a:xfrm>
          <a:prstGeom prst="wedgeRectCallout">
            <a:avLst>
              <a:gd name="adj1" fmla="val 61504"/>
              <a:gd name="adj2" fmla="val -119884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拉动卷动条查看其它数据</a:t>
            </a:r>
            <a:r>
              <a:rPr b="1" lang="zh-TW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42960" y="11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43600" y="3124080"/>
            <a:ext cx="1676520" cy="580680"/>
          </a:xfrm>
          <a:prstGeom prst="wedgeRectCallout">
            <a:avLst>
              <a:gd name="adj1" fmla="val 27263"/>
              <a:gd name="adj2" fmla="val 110532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亦可逐项修订金额与交货日数</a:t>
            </a:r>
            <a:r>
              <a:rPr b="1" lang="zh-TW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62720" y="1295280"/>
            <a:ext cx="2133360" cy="580680"/>
          </a:xfrm>
          <a:prstGeom prst="wedgeRectCallout">
            <a:avLst>
              <a:gd name="adj1" fmla="val -67476"/>
              <a:gd name="adj2" fmla="val 127939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显示议价函内容，有询价案号、议价截止日、金额、交货日数、议价明细等字段</a:t>
            </a:r>
            <a:r>
              <a:rPr b="1" lang="zh-TW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52480" y="3200400"/>
            <a:ext cx="1371600" cy="337320"/>
          </a:xfrm>
          <a:prstGeom prst="wedgeRectCallout">
            <a:avLst>
              <a:gd name="adj1" fmla="val 64560"/>
              <a:gd name="adj2" fmla="val 286777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可以输入其它相关意见</a:t>
            </a:r>
            <a:r>
              <a:rPr b="1" lang="zh-TW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4724280"/>
            <a:ext cx="1066680" cy="580680"/>
          </a:xfrm>
          <a:prstGeom prst="wedgeRectCallout">
            <a:avLst>
              <a:gd name="adj1" fmla="val -108601"/>
              <a:gd name="adj2" fmla="val 126393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要立即回复请按下确认按键</a:t>
            </a:r>
            <a:r>
              <a:rPr b="1" lang="zh-TW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5715000"/>
            <a:ext cx="609480" cy="380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181480" y="2438280"/>
            <a:ext cx="2133720" cy="580680"/>
          </a:xfrm>
          <a:prstGeom prst="wedgeRectCallout">
            <a:avLst>
              <a:gd name="adj1" fmla="val -56458"/>
              <a:gd name="adj2" fmla="val 108611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显示同意修订的议价函内容，请您确认</a:t>
            </a:r>
            <a:r>
              <a:rPr b="1" lang="zh-TW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38880" y="3733920"/>
            <a:ext cx="1524240" cy="337320"/>
          </a:xfrm>
          <a:prstGeom prst="wedgeRectCallout">
            <a:avLst>
              <a:gd name="adj1" fmla="val 60930"/>
              <a:gd name="adj2" fmla="val -170254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拉动卷动条查看其它数据</a:t>
            </a:r>
            <a:r>
              <a:rPr b="1" lang="zh-TW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895480" y="5029200"/>
            <a:ext cx="1067040" cy="580680"/>
          </a:xfrm>
          <a:prstGeom prst="wedgeRectCallout">
            <a:avLst>
              <a:gd name="adj1" fmla="val -105949"/>
              <a:gd name="adj2" fmla="val 94361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检视无误按下确认按键回复</a:t>
            </a:r>
            <a:r>
              <a:rPr b="1" lang="zh-TW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6095880"/>
            <a:ext cx="609480" cy="381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90920" y="4572000"/>
            <a:ext cx="1447560" cy="337320"/>
          </a:xfrm>
          <a:prstGeom prst="wedgeRectCallout">
            <a:avLst>
              <a:gd name="adj1" fmla="val -50967"/>
              <a:gd name="adj2" fmla="val -2059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0000"/>
                </a:solidFill>
                <a:latin typeface="Times New Roman"/>
                <a:ea typeface="SimSun"/>
              </a:rPr>
              <a:t>按下一步键，就会进入使用电子凭证步骤</a:t>
            </a:r>
            <a:r>
              <a:rPr b="1" lang="zh-TW" sz="1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3581280"/>
            <a:ext cx="685800" cy="3812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01:25:12Z</dcterms:created>
  <dc:creator>all user</dc:creator>
  <dc:description/>
  <dc:language>en-US</dc:language>
  <cp:lastModifiedBy>all user</cp:lastModifiedBy>
  <dcterms:modified xsi:type="dcterms:W3CDTF">2003-02-17T02:32:44Z</dcterms:modified>
  <cp:revision>34</cp:revision>
  <dc:subject/>
  <dc:title>PowerPoint 簡報</dc:title>
</cp:coreProperties>
</file>