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1FC-2933-47A8-B396-0CE8816C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8F4-913E-4D03-92C7-5F18F862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71B-1C06-4728-BB89-C0443E44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F04-04C6-4642-AD83-2D01A943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150-0C22-424C-84FB-E504B25B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5A4-78DF-4273-8C91-C98B8082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16E-D112-45F8-A885-D8E7F3FE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B63-6F37-4771-83E5-5D1067A0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94E-6A31-4694-A06A-43E7EAA0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FF0-4A2C-4AC3-A044-A6546FE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522-B6A0-424E-AE81-1276689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947-8057-4673-B56E-F17478D4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12BF-6216-402C-B170-1F36C1AE2D4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母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676520"/>
            <a:ext cx="6248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標楷體"/>
                <a:ea typeface="SimSun"/>
              </a:rPr>
              <a:t>领投标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SimSun"/>
              </a:rPr>
              <a:t>  </a:t>
            </a:r>
            <a:r>
              <a:rPr b="0" lang="zh-CN" sz="6000" spc="-1" strike="noStrike">
                <a:solidFill>
                  <a:srgbClr val="ffff00"/>
                </a:solidFill>
                <a:latin typeface="標楷體"/>
                <a:ea typeface="SimSun"/>
              </a:rPr>
              <a:t>报价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 </a:t>
            </a: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合约采购案询报价</a:t>
            </a:r>
            <a:r>
              <a:rPr b="0" lang="zh-TW" sz="6000" spc="-1" strike="noStrike">
                <a:solidFill>
                  <a:srgbClr val="ffff00"/>
                </a:solidFill>
                <a:latin typeface="SimSun"/>
                <a:ea typeface="SimSu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335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企业采购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SimSun"/>
              </a:rPr>
              <a:t>供应商</a:t>
            </a:r>
            <a:r>
              <a:rPr b="0" lang="zh-CN" sz="4400" spc="-1" strike="noStrike">
                <a:solidFill>
                  <a:srgbClr val="ffffff"/>
                </a:solidFill>
                <a:latin typeface="SimSun"/>
                <a:ea typeface="SimSun"/>
              </a:rPr>
              <a:t>专区</a:t>
            </a:r>
            <a:r>
              <a:rPr b="0" lang="zh-CN" sz="4400" spc="-1" strike="noStrike">
                <a:solidFill>
                  <a:srgbClr val="ffffff"/>
                </a:solidFill>
                <a:latin typeface="標楷體"/>
                <a:ea typeface="SimSu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SimSun"/>
                <a:ea typeface="SimSun"/>
              </a:rPr>
              <a:t>操作讲解</a:t>
            </a:r>
            <a:r>
              <a:rPr b="0" lang="zh-TW" sz="4400" spc="-1" strike="noStrike">
                <a:solidFill>
                  <a:srgbClr val="ffffff"/>
                </a:solidFill>
                <a:latin typeface="標楷體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2743200"/>
            <a:ext cx="1218960" cy="824040"/>
          </a:xfrm>
          <a:prstGeom prst="wedgeRectCallout">
            <a:avLst>
              <a:gd name="adj1" fmla="val 87347"/>
              <a:gd name="adj2" fmla="val 652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设定调整比率，如依报价明细内容，选不调整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2133720"/>
            <a:ext cx="1981440" cy="337320"/>
          </a:xfrm>
          <a:prstGeom prst="wedgeRectCallout">
            <a:avLst>
              <a:gd name="adj1" fmla="val 36847"/>
              <a:gd name="adj2" fmla="val -243282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设定报价统一税率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1143000"/>
            <a:ext cx="9903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2-領投標1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724280" y="5181480"/>
            <a:ext cx="914400" cy="337320"/>
          </a:xfrm>
          <a:prstGeom prst="wedgeRectCallout">
            <a:avLst>
              <a:gd name="adj1" fmla="val -88685"/>
              <a:gd name="adj2" fmla="val 21162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立即报价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095880"/>
            <a:ext cx="9144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952880"/>
            <a:ext cx="1524240" cy="337320"/>
          </a:xfrm>
          <a:prstGeom prst="wedgeRectCallout">
            <a:avLst>
              <a:gd name="adj1" fmla="val 92171"/>
              <a:gd name="adj2" fmla="val 26982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可以选择暂存数据、转批次报价、立即报价或回列表</a:t>
            </a:r>
            <a:r>
              <a:rPr b="1" lang="zh-TW" sz="1600" spc="-1" strike="noStrike">
                <a:solidFill>
                  <a:srgbClr val="cc0000"/>
                </a:solidFill>
                <a:latin typeface="新細明體"/>
              </a:rPr>
              <a:t>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0確認頁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324480" y="1143000"/>
            <a:ext cx="1524240" cy="580680"/>
          </a:xfrm>
          <a:prstGeom prst="wedgeRectCallout">
            <a:avLst>
              <a:gd name="adj1" fmla="val -85722"/>
              <a:gd name="adj2" fmla="val 10668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出合约采购报价单内容，请您确认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5334120"/>
            <a:ext cx="1218960" cy="580680"/>
          </a:xfrm>
          <a:prstGeom prst="wedgeRectCallout">
            <a:avLst>
              <a:gd name="adj1" fmla="val -89828"/>
              <a:gd name="adj2" fmla="val -6604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可以点选报价明细查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5029200"/>
            <a:ext cx="9144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-領投標1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4191120"/>
            <a:ext cx="1752480" cy="580680"/>
          </a:xfrm>
          <a:prstGeom prst="wedgeRectCallout">
            <a:avLst>
              <a:gd name="adj1" fmla="val 53694"/>
              <a:gd name="adj2" fmla="val 21530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确认报价内容无误后，点选确认按键进行报价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5638680"/>
            <a:ext cx="6858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7080" y="2438280"/>
            <a:ext cx="1524240" cy="580680"/>
          </a:xfrm>
          <a:prstGeom prst="wedgeRectCallout">
            <a:avLst>
              <a:gd name="adj1" fmla="val -51768"/>
              <a:gd name="adj2" fmla="val 10006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提示您将激活电子凭证签章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495680"/>
            <a:ext cx="1447920" cy="580680"/>
          </a:xfrm>
          <a:prstGeom prst="wedgeRectCallout">
            <a:avLst>
              <a:gd name="adj1" fmla="val -25023"/>
              <a:gd name="adj2" fmla="val -143925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按下一步键，就会进入使用电子凭证步骤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81280"/>
            <a:ext cx="76176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合約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4724280"/>
            <a:ext cx="4572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057400"/>
            <a:ext cx="1905120" cy="580680"/>
          </a:xfrm>
          <a:prstGeom prst="wedgeRectCallout">
            <a:avLst>
              <a:gd name="adj1" fmla="val -52490"/>
              <a:gd name="adj2" fmla="val 13618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合约采购询报价案件处理情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5334120"/>
            <a:ext cx="2057400" cy="824040"/>
          </a:xfrm>
          <a:prstGeom prst="wedgeRectCallout">
            <a:avLst>
              <a:gd name="adj1" fmla="val -54773"/>
              <a:gd name="adj2" fmla="val -10038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案件数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出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询价案列表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挑选案件并点选填写报价单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048120"/>
            <a:ext cx="12193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4280" y="3048120"/>
            <a:ext cx="2057400" cy="580680"/>
          </a:xfrm>
          <a:prstGeom prst="wedgeRectCallout">
            <a:avLst>
              <a:gd name="adj1" fmla="val -51921"/>
              <a:gd name="adj2" fmla="val 201671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出询价单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包含合约期限、交货地点、报价截止日及询价条件等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676520"/>
            <a:ext cx="1676520" cy="580680"/>
          </a:xfrm>
          <a:prstGeom prst="wedgeRectCallout">
            <a:avLst>
              <a:gd name="adj1" fmla="val 23569"/>
              <a:gd name="adj2" fmla="val 10966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报价单填写详细报价内容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2590920"/>
            <a:ext cx="9144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238880" y="3276720"/>
            <a:ext cx="1524240" cy="580680"/>
          </a:xfrm>
          <a:prstGeom prst="wedgeRectCallout">
            <a:avLst>
              <a:gd name="adj1" fmla="val 63740"/>
              <a:gd name="adj2" fmla="val -14776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拉动滚动条查看其余的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1828800"/>
            <a:ext cx="2133720" cy="580680"/>
          </a:xfrm>
          <a:prstGeom prst="wedgeRectCallout">
            <a:avLst>
              <a:gd name="adj1" fmla="val -32004"/>
              <a:gd name="adj2" fmla="val 21920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出报价单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包含报价截止日、报价须知、报价条件及报价有效期限等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24480" y="2209680"/>
            <a:ext cx="1143000" cy="337320"/>
          </a:xfrm>
          <a:prstGeom prst="wedgeRectCallout">
            <a:avLst>
              <a:gd name="adj1" fmla="val -88314"/>
              <a:gd name="adj2" fmla="val 102449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填写报价明细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1523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2-領投標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1676520"/>
            <a:ext cx="1981440" cy="337320"/>
          </a:xfrm>
          <a:prstGeom prst="wedgeRectCallout">
            <a:avLst>
              <a:gd name="adj1" fmla="val -91013"/>
              <a:gd name="adj2" fmla="val 36385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出合约采购报价明细内容包含询价案号、询价厂商、报价明细等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352680"/>
            <a:ext cx="1524240" cy="580680"/>
          </a:xfrm>
          <a:prstGeom prst="wedgeRectCallout">
            <a:avLst>
              <a:gd name="adj1" fmla="val 78004"/>
              <a:gd name="adj2" fmla="val -12273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拉动滚动条查看其余的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4191120"/>
            <a:ext cx="2895480" cy="824040"/>
          </a:xfrm>
          <a:prstGeom prst="wedgeRectCallout">
            <a:avLst>
              <a:gd name="adj1" fmla="val -26879"/>
              <a:gd name="adj2" fmla="val -10943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合约询价如果有以前的报价数据，会自动汇入，您可以设定调整比率，依比率快速调整各项单价，节省逐项输入时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2-領投標1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1523880"/>
            <a:ext cx="1447920" cy="580680"/>
          </a:xfrm>
          <a:prstGeom prst="wedgeRectCallout">
            <a:avLst>
              <a:gd name="adj1" fmla="val 78606"/>
              <a:gd name="adj2" fmla="val 3581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逐项数入各字段报价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334120"/>
            <a:ext cx="1447560" cy="580680"/>
          </a:xfrm>
          <a:prstGeom prst="wedgeRectCallout">
            <a:avLst>
              <a:gd name="adj1" fmla="val -75754"/>
              <a:gd name="adj2" fmla="val 9900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输入完毕点选回询报价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2-領投標1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05520" y="4419720"/>
            <a:ext cx="1904760" cy="580680"/>
          </a:xfrm>
          <a:prstGeom prst="wedgeRectCallout">
            <a:avLst>
              <a:gd name="adj1" fmla="val -58990"/>
              <a:gd name="adj2" fmla="val -9615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请确定输入最小订购量为最小包装量之整数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438280"/>
            <a:ext cx="1371600" cy="337320"/>
          </a:xfrm>
          <a:prstGeom prst="wedgeRectCallout">
            <a:avLst>
              <a:gd name="adj1" fmla="val 105546"/>
              <a:gd name="adj2" fmla="val 14434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提醒您有字段输入错误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2-領投標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514600"/>
            <a:ext cx="1752480" cy="580680"/>
          </a:xfrm>
          <a:prstGeom prst="wedgeRectCallout">
            <a:avLst>
              <a:gd name="adj1" fmla="val 64847"/>
              <a:gd name="adj2" fmla="val -149935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重新输入最小订购量为最小包装量之整数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1371600"/>
            <a:ext cx="16765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5334120"/>
            <a:ext cx="1447560" cy="580680"/>
          </a:xfrm>
          <a:prstGeom prst="wedgeRectCallout">
            <a:avLst>
              <a:gd name="adj1" fmla="val -75754"/>
              <a:gd name="adj2" fmla="val 9900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输入完毕点选回询报价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1:25:12Z</dcterms:created>
  <dc:creator>all user</dc:creator>
  <dc:description/>
  <dc:language>en-US</dc:language>
  <cp:lastModifiedBy>all user</cp:lastModifiedBy>
  <dcterms:modified xsi:type="dcterms:W3CDTF">2003-02-17T02:31:50Z</dcterms:modified>
  <cp:revision>34</cp:revision>
  <dc:subject/>
  <dc:title>PowerPoint 簡報</dc:title>
</cp:coreProperties>
</file>