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D8A-A1E9-4D4B-B387-C4D6AE2F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1CC-EB88-43FA-B43B-9868E28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22F-E466-48F9-9EF1-E603B2C9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B3B-17EF-4C3C-890D-56E6EBBE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A063-CEFD-4DEE-8983-1A1E11C6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03EF-AFA6-41C2-A946-001A6276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D6D0-920B-4366-BC58-3958086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C72D-A1E4-481E-874D-4C4401B6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89A1-51FD-4F85-87EC-D98026820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FA17-AEDD-47B2-926B-2F4B9FDA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259C-5C7E-417C-ABE9-9832ECB2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19A-81A8-4B26-9BD8-A37E2E6D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CFBD-0CCD-42C0-B190-16600531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C75D-EF86-411C-9B5D-8EF44156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7D69-9F94-4883-8201-F13312C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5AF1-5242-4B44-971B-C65796712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8CED-C254-413D-B3DD-74FBFAB3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5985-AD6C-4C44-B125-ECADA070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873-200D-4C6F-9912-4043FEBA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E66-5EA0-4573-8709-9068E56D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9E19-4FB6-4DF0-95F3-CEC0A1E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0219-3480-4B69-A7C6-402CD948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7CA1-2D9F-487C-AF29-BBB0A06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7D73-04CE-4A29-9493-444252B0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620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59E-1371-4CEB-82A8-36DB1CC996D1}" type="datetime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0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4C1-10DB-4AFD-8F58-20B2B833239B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4358-EABE-432B-9BFB-256336377F04}" type="slidenum">
              <a:rPr b="0" lang="zh-TW" sz="1400" spc="-1" strike="noStrike">
                <a:solidFill>
                  <a:srgbClr val="000000"/>
                </a:solidFill>
                <a:latin typeface="Comic Sans MS"/>
                <a:ea typeface="標楷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59556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4892-B555-437C-9538-A8C4C0C1B381}" type="datetime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9556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04D2-B443-4F4E-853F-BDDCF88EB19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BC2A-E247-486C-9C16-1E38EC11F21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SimSun"/>
              </a:rPr>
              <a:t>提货管理操作说明</a:t>
            </a:r>
            <a:r>
              <a:rPr b="1" lang="zh-TW" sz="40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供货商登入后点选提货管理选项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532720" cy="399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779400"/>
            <a:ext cx="8532720" cy="3994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755640" y="4517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输入查询条件后按开始搜寻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,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可查询出符合条件之资材提货许可单。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7280" y="765000"/>
            <a:ext cx="8532720" cy="3994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44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系统依交运状况管制不能下载许可单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(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状态为：已交运、逾期未交运、已撤销交运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)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。若为未交运则可下载打印。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资材提货许可单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-</a:t>
            </a:r>
            <a:r>
              <a:rPr b="1" lang="zh-CN" sz="2800" spc="-1" strike="noStrike">
                <a:solidFill>
                  <a:srgbClr val="cc0000"/>
                </a:solidFill>
                <a:latin typeface="Comic Sans MS"/>
                <a:ea typeface="SimSun"/>
              </a:rPr>
              <a:t>提货通知</a:t>
            </a:r>
            <a:r>
              <a:rPr b="1" lang="zh-TW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1" lang="en-US" sz="2800" spc="-1" strike="noStrike">
              <a:solidFill>
                <a:srgbClr val="cc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ff"/>
              </a:solidFill>
              <a:latin typeface="Comic Sans MS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78120" y="1484280"/>
            <a:ext cx="5214960" cy="4300560"/>
            <a:chOff x="1878120" y="1484280"/>
            <a:chExt cx="5214960" cy="43005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1878120" y="1484280"/>
              <a:ext cx="5214960" cy="430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411280" y="2214720"/>
              <a:ext cx="576360" cy="712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87640" y="2752560"/>
              <a:ext cx="289080" cy="71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0T10:35:25Z</dcterms:created>
  <dc:creator>OUser</dc:creator>
  <dc:description/>
  <dc:language>en-US</dc:language>
  <cp:lastModifiedBy>Maiee</cp:lastModifiedBy>
  <dcterms:modified xsi:type="dcterms:W3CDTF">2012-12-03T03:57:22Z</dcterms:modified>
  <cp:revision>1654</cp:revision>
  <dc:subject/>
  <dc:title>PowerPoint 簡報</dc:title>
</cp:coreProperties>
</file>