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343-C5E5-46BC-92F3-9FBE4385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6B-C4B7-44DC-9548-00C1D8B9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E34-1C53-4873-A296-26A94840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443-AB5E-4BF1-BE75-853D086A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3645-5852-46F9-B0A2-F3BC13A4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EC5-3F4F-4556-A59B-5823151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302-47CC-4CE3-8C12-D9CE480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2E40-F40F-49CA-9C79-D6A49AB3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EEAA-15E8-4C5F-9240-BC017E9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CFC-948C-41EF-A182-31B9EE8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E5D-78CD-4232-AB0B-2F09422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C45-B6C0-4A9F-9B61-7190B58A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448-B84A-4A9F-BC07-C9E5FF6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CEB-989E-4D36-BF6F-9F5C94B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9AF0-E5DE-40DD-9480-5FB42790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9E63-4B74-457D-B507-D86CF596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EE71-C005-4D96-9CDE-123F33C3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ECF-F143-4FC4-B15E-0523DD6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234-3FBF-4608-8157-D38FDB3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4D4-507C-4BAE-8736-7CD2825B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C06-C668-4E3F-960C-3D20CF7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CAC-467B-45EB-935A-AA2D435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E2A-CBB6-4128-9BE9-880C0C2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63B-4F4E-4B64-9003-10DFD68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620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AF6C-0C11-4F11-A3A7-CAD42F32DE53}" type="datetime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0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0BAB-D4C4-44A0-9488-8F820163FC35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033-58C4-44D2-B923-7CC3EFCC7B08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59556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581-F7B9-4586-B149-F6355B1FBB83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955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329-40D8-4F1B-AB3D-4C2DBE4A77E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3A2-C283-49B6-860F-585B3B87009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omic Sans MS"/>
              </a:rPr>
              <a:t>提貨管理操作說明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供應商登入後點選提貨管理選項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7280" y="1484280"/>
            <a:ext cx="8532720" cy="399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32720" cy="3994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55640" y="451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輸入查詢條件後按開始搜尋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可查詢出符合條件之資材提貨許可單。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32720" cy="3994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系統依交運狀況管制不能下載許可單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(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狀態為：已交運、逾期未交運、已撤銷交運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)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若為未交運則可下載列印。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236600"/>
            <a:ext cx="8510760" cy="492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資材提貨許可單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-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提貨通知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1413000"/>
            <a:ext cx="5589720" cy="4608360"/>
            <a:chOff x="1908000" y="1413000"/>
            <a:chExt cx="5589720" cy="46083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908000" y="1413000"/>
              <a:ext cx="558972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484360" y="2205000"/>
              <a:ext cx="7192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0:35:25Z</dcterms:created>
  <dc:creator>OUser</dc:creator>
  <dc:description/>
  <dc:language>en-US</dc:language>
  <cp:lastModifiedBy>Maiee</cp:lastModifiedBy>
  <dcterms:modified xsi:type="dcterms:W3CDTF">2012-12-03T03:52:55Z</dcterms:modified>
  <cp:revision>1653</cp:revision>
  <dc:subject/>
  <dc:title>PowerPoint 簡報</dc:title>
</cp:coreProperties>
</file>