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528-D800-441B-9977-BBA9A1F3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FBC-C424-4BF5-8427-6E8D0263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708-82CB-443F-9F3C-E37587BB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EDE-A62A-48D5-8745-95A7DABA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665C-2080-4689-818B-16637DEC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924-5770-4911-9900-83FB9BAB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D92-8C97-40A8-BE78-1DCB84E9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966-9B53-4B7F-B699-94D46491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428-B877-4C37-9826-6289B631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1CA-906D-4CB2-8D9A-52495091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A7D-1A6A-4366-9DF5-FC66F191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15B-7279-4B94-9FED-112E6A7B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52C3-AE0C-4E0F-B759-4FC97D26E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23A9-9F62-4964-A832-19D808B46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324000" y="228600"/>
            <a:ext cx="82087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合約採購合約書電子簽章作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操作說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4"/>
          <p:cNvSpPr/>
          <p:nvPr/>
        </p:nvSpPr>
        <p:spPr>
          <a:xfrm>
            <a:off x="900000" y="1989000"/>
            <a:ext cx="7201080" cy="1152720"/>
          </a:xfrm>
          <a:prstGeom prst="flowChartAlternateProcess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簽章順序：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廠商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乙方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簽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採購部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代表甲方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簽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5"/>
          <p:cNvSpPr/>
          <p:nvPr/>
        </p:nvSpPr>
        <p:spPr>
          <a:xfrm>
            <a:off x="900000" y="3284640"/>
            <a:ext cx="7201080" cy="1224000"/>
          </a:xfrm>
          <a:prstGeom prst="flowChartAlternateProcess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查詢及列印功能：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廠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採購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6"/>
          <p:cNvSpPr/>
          <p:nvPr/>
        </p:nvSpPr>
        <p:spPr>
          <a:xfrm>
            <a:off x="900000" y="4653000"/>
            <a:ext cx="7201080" cy="64764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不同意採電子簽章或對內容有異議之作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7"/>
          <p:cNvSpPr/>
          <p:nvPr/>
        </p:nvSpPr>
        <p:spPr>
          <a:xfrm>
            <a:off x="900000" y="5445000"/>
            <a:ext cx="7201080" cy="6480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其他說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A57E-2142-42C2-B993-BDDCF6873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553440" cy="4870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61128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採購部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代表甲方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簽章確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546200" y="4653000"/>
            <a:ext cx="6481800" cy="122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6659640" y="4363920"/>
            <a:ext cx="2016000" cy="720720"/>
          </a:xfrm>
          <a:prstGeom prst="wedgeRoundRectCallout">
            <a:avLst>
              <a:gd name="adj1" fmla="val -137560"/>
              <a:gd name="adj2" fmla="val 38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採購經辦確認是否同意執行簽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81080" y="2852640"/>
            <a:ext cx="1295280" cy="936720"/>
          </a:xfrm>
          <a:prstGeom prst="wedgeRoundRectCallout">
            <a:avLst>
              <a:gd name="adj1" fmla="val 143750"/>
              <a:gd name="adj2" fmla="val -3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電腦自動附上合約</a:t>
            </a:r>
            <a:r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PDF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檔供查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468360" y="6021360"/>
            <a:ext cx="7920000" cy="647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OA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傳簽至採購部經營主管核准後，即由台塑網立即自動簽章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完成雙方簽章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79280" y="765000"/>
            <a:ext cx="41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廠商簽章後隔日電腦自動於</a:t>
            </a:r>
            <a:r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OA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出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59FC-0434-46A2-819A-75657BB25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877160" cy="484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Text Box 3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雙方簽章完成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合約書加印雙方簽章記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66560" y="4021200"/>
            <a:ext cx="1873440" cy="936720"/>
          </a:xfrm>
          <a:prstGeom prst="wedgeRoundRectCallout">
            <a:avLst>
              <a:gd name="adj1" fmla="val 51611"/>
              <a:gd name="adj2" fmla="val -126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電腦自動產生「浮水印」，印出雙方簽章時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681200" y="2314440"/>
            <a:ext cx="6481800" cy="9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568840" y="1306440"/>
            <a:ext cx="2954520" cy="370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2268360" y="907920"/>
            <a:ext cx="2521080" cy="648000"/>
          </a:xfrm>
          <a:prstGeom prst="wedgeRoundRectCallout">
            <a:avLst>
              <a:gd name="adj1" fmla="val 75189"/>
              <a:gd name="adj2" fmla="val 352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電腦自動產生「浮水印」，印出雙方簽章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3015-3D7E-4C45-8DBF-860DF1616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雙方簽章完成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通知廠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61153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C906-770D-4216-ACAB-9E29846B7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096040" cy="5600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468360" y="4292640"/>
            <a:ext cx="1547640" cy="249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雙方簽章完成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商查詢及列印合約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2484360" y="5157720"/>
            <a:ext cx="2374920" cy="1008000"/>
          </a:xfrm>
          <a:prstGeom prst="wedgeRoundRectCallout">
            <a:avLst>
              <a:gd name="adj1" fmla="val -63370"/>
              <a:gd name="adj2" fmla="val -91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廠商可於台塑網查詢及列印雙方已簽訂完成之合約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D04C-2E8E-4F03-BD26-4A8F1DD74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33200" y="1633680"/>
            <a:ext cx="8877600" cy="3590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雙方簽章完成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商查詢及列印合約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5580000" y="3933720"/>
            <a:ext cx="2737080" cy="1150920"/>
          </a:xfrm>
          <a:prstGeom prst="wedgeRoundRectCallout">
            <a:avLst>
              <a:gd name="adj1" fmla="val 41648"/>
              <a:gd name="adj2" fmla="val -91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點「列印」可查看、列印或另存檔案保留合約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點「流程進度」可查流程記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7F09-3D6E-4FE5-95AA-5CCE56965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如不同意採電子簽章或對內容有異議之作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39640" y="1052640"/>
            <a:ext cx="3600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不同意採電子簽章方式簽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539640" y="1916280"/>
            <a:ext cx="3600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雙方對合約書內容有異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 rot="870600">
            <a:off x="4500720" y="1268280"/>
            <a:ext cx="1081080" cy="2876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 rot="20448000">
            <a:off x="4500360" y="1916280"/>
            <a:ext cx="1081080" cy="28728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5867280" y="907920"/>
            <a:ext cx="2232000" cy="1513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維持書面用印方式簽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68360" y="2637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另外，如果廠商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乙方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已採電子簽章後，採購部於「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OA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電子合約書採購部簽章確認單」呈准尚需調整內容時，會自動對廠商發出通知，另採書面方式用印簽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"/>
          <p:cNvPicPr/>
          <p:nvPr/>
        </p:nvPicPr>
        <p:blipFill>
          <a:blip r:embed="rId1"/>
          <a:stretch/>
        </p:blipFill>
        <p:spPr>
          <a:xfrm>
            <a:off x="1476360" y="3271680"/>
            <a:ext cx="612000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0660-A425-4D6B-8863-6EF7011E1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其他說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24000" y="203508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廠商現有之電子憑證即可進行合約書簽章，無須額外支出費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與現有雙方書面用印簽約方式併存，廠商可擇一方式採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電子合約書係依政府頒佈之「電子簽章法」規定執行，具有法律效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廠商簽認後，採購進度作業將自動產生「合約書實際提供日」，免人工輸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雙方簽訂生效後，可視需求查詢及列印電子合約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6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有訴訟需求而需針對合約書舉證時，可洽「關貿網路公司」出具證明文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76A0-9566-415D-9FC8-96C1733D3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4362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547640" y="1844640"/>
            <a:ext cx="1729080" cy="136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商路徑：從「訂單管理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買賣合約書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合約案件」進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851120" y="1268280"/>
            <a:ext cx="56016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2400" y="4006800"/>
            <a:ext cx="86328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3203640" y="3213000"/>
            <a:ext cx="43164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3924360" y="1773360"/>
            <a:ext cx="1942920" cy="934920"/>
          </a:xfrm>
          <a:prstGeom prst="wedgeRoundRectCallout">
            <a:avLst>
              <a:gd name="adj1" fmla="val -80800"/>
              <a:gd name="adj2" fmla="val 286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方法一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輸入合約編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按「開始查詢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2"/>
          <a:stretch/>
        </p:blipFill>
        <p:spPr>
          <a:xfrm>
            <a:off x="360360" y="4365720"/>
            <a:ext cx="8748720" cy="1888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6" name="Rectangle 10"/>
          <p:cNvSpPr/>
          <p:nvPr/>
        </p:nvSpPr>
        <p:spPr>
          <a:xfrm>
            <a:off x="7020000" y="5013360"/>
            <a:ext cx="10810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5580000" y="6021360"/>
            <a:ext cx="2519280" cy="647640"/>
          </a:xfrm>
          <a:prstGeom prst="wedgeRoundRectCallout">
            <a:avLst>
              <a:gd name="adj1" fmla="val 34500"/>
              <a:gd name="adj2" fmla="val -1102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3.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按「檢視」進入該案合約書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B07B-FE4B-444B-BF5A-9D25B21EF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436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8836200" cy="1955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1" name="Rectangle 3"/>
          <p:cNvSpPr/>
          <p:nvPr/>
        </p:nvSpPr>
        <p:spPr>
          <a:xfrm>
            <a:off x="6470640" y="3519360"/>
            <a:ext cx="658800" cy="48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商路徑：從「訂單管理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買賣合約書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合約案件」進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851120" y="1268280"/>
            <a:ext cx="56016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22400" y="4006800"/>
            <a:ext cx="86328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H="1">
            <a:off x="6227640" y="3933720"/>
            <a:ext cx="216000" cy="35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6588000" y="2205000"/>
            <a:ext cx="2305080" cy="862200"/>
          </a:xfrm>
          <a:prstGeom prst="wedgeRoundRectCallout">
            <a:avLst>
              <a:gd name="adj1" fmla="val -42907"/>
              <a:gd name="adj2" fmla="val 929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方法二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直接點「未檢視」，查看所有待簽合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948360" y="4653000"/>
            <a:ext cx="136872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"/>
          <p:cNvSpPr/>
          <p:nvPr/>
        </p:nvSpPr>
        <p:spPr>
          <a:xfrm>
            <a:off x="4788000" y="5950080"/>
            <a:ext cx="2519280" cy="647640"/>
          </a:xfrm>
          <a:prstGeom prst="wedgeRoundRectCallout">
            <a:avLst>
              <a:gd name="adj1" fmla="val 39097"/>
              <a:gd name="adj2" fmla="val -1387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可按「檢視」進入各案合約書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1078-5684-4959-8037-DF9D806EB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640720" cy="4143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合約書頁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4140360" y="4797360"/>
            <a:ext cx="3024000" cy="647640"/>
          </a:xfrm>
          <a:prstGeom prst="wedgeRoundRectCallout">
            <a:avLst>
              <a:gd name="adj1" fmla="val -19342"/>
              <a:gd name="adj2" fmla="val -19901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若擬採用電子簽章方式簽約，可點擊「執行簽章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324000" y="3429000"/>
            <a:ext cx="1296720" cy="647640"/>
          </a:xfrm>
          <a:prstGeom prst="wedgeRoundRectCallout">
            <a:avLst>
              <a:gd name="adj1" fmla="val 79254"/>
              <a:gd name="adj2" fmla="val -446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可先檢視合約書內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1990800" y="3213000"/>
            <a:ext cx="923760" cy="21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圖片 7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7829640" cy="2808360"/>
          </a:xfrm>
          <a:prstGeom prst="rect">
            <a:avLst/>
          </a:prstGeom>
          <a:ln w="0">
            <a:noFill/>
          </a:ln>
        </p:spPr>
      </p:pic>
      <p:pic>
        <p:nvPicPr>
          <p:cNvPr id="76" name="圖片 10" descr=""/>
          <p:cNvPicPr/>
          <p:nvPr/>
        </p:nvPicPr>
        <p:blipFill>
          <a:blip r:embed="rId2"/>
          <a:stretch/>
        </p:blipFill>
        <p:spPr>
          <a:xfrm>
            <a:off x="539640" y="706320"/>
            <a:ext cx="7829640" cy="2651400"/>
          </a:xfrm>
          <a:prstGeom prst="rect">
            <a:avLst/>
          </a:prstGeom>
          <a:ln w="0">
            <a:noFill/>
          </a:ln>
        </p:spPr>
      </p:pic>
      <p:sp>
        <p:nvSpPr>
          <p:cNvPr id="77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F52D-C3A7-47E3-BED2-1CCE92F36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合約書頁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4332240" y="708120"/>
            <a:ext cx="3024360" cy="936360"/>
          </a:xfrm>
          <a:prstGeom prst="wedgeRoundRectCallout">
            <a:avLst>
              <a:gd name="adj1" fmla="val -56185"/>
              <a:gd name="adj2" fmla="val 9774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若該合約</a:t>
            </a:r>
            <a:r>
              <a:rPr b="1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尚未過合約效期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則正常顯示［執行簽章］鈕，廠商可正常執行電子簽章作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5"/>
          <p:cNvSpPr/>
          <p:nvPr/>
        </p:nvSpPr>
        <p:spPr>
          <a:xfrm>
            <a:off x="4211640" y="3068640"/>
            <a:ext cx="4157640" cy="1116000"/>
          </a:xfrm>
          <a:prstGeom prst="wedgeRoundRectCallout">
            <a:avLst>
              <a:gd name="adj1" fmla="val -53342"/>
              <a:gd name="adj2" fmla="val 11722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若該合約</a:t>
            </a:r>
            <a:r>
              <a:rPr b="1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已過合約效期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則不顯示［執行簽章］鈕．改顯示該筆訂單已過合約效期的資訊，廠商須回清單頁點選其他筆未過合約效期的資料，執行電子簽章作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AA2C-B0A8-40CF-AE62-B5AC37F9D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640720" cy="4143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39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商執行簽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4572000" y="2852640"/>
            <a:ext cx="720720" cy="495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5307120" y="2541600"/>
            <a:ext cx="2808360" cy="25527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/>
          <p:cNvSpPr/>
          <p:nvPr/>
        </p:nvSpPr>
        <p:spPr>
          <a:xfrm>
            <a:off x="5292720" y="2565360"/>
            <a:ext cx="2822760" cy="256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3203640" y="4941720"/>
            <a:ext cx="2158920" cy="648000"/>
          </a:xfrm>
          <a:prstGeom prst="wedgeRoundRectCallout">
            <a:avLst>
              <a:gd name="adj1" fmla="val 58013"/>
              <a:gd name="adj2" fmla="val -14485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按「執行簽章」並選擇「統編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43F6-667D-4823-9345-5B51E5696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632720" cy="44496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490840" y="2730600"/>
            <a:ext cx="806400" cy="30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2340000" y="3630600"/>
            <a:ext cx="2881440" cy="647640"/>
          </a:xfrm>
          <a:prstGeom prst="wedgeRoundRectCallout">
            <a:avLst>
              <a:gd name="adj1" fmla="val -24435"/>
              <a:gd name="adj2" fmla="val -1340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出現「作業已完成」時，即代表廠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乙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已簽章完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187280" y="189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商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乙方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簽章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7F65-8649-43EF-89DC-A655A7509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6191280" cy="3609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3203640" y="1571760"/>
            <a:ext cx="5688000" cy="45939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2340000" y="2236680"/>
            <a:ext cx="576360" cy="30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556000" y="2525760"/>
            <a:ext cx="57600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900000" y="3821040"/>
            <a:ext cx="2233800" cy="1152720"/>
          </a:xfrm>
          <a:prstGeom prst="wedgeRoundRectCallout">
            <a:avLst>
              <a:gd name="adj1" fmla="val 28749"/>
              <a:gd name="adj2" fmla="val -126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點「另存檔案」可查看並另存檔案保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此時尚未完成簽約，甲方尚未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187280" y="189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商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乙方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簽章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203640" y="1557360"/>
            <a:ext cx="5689440" cy="462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0518-CB00-42D0-B3F7-4669EA539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8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7704000" cy="4002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3867120" cy="3628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3"/>
          <a:stretch/>
        </p:blipFill>
        <p:spPr>
          <a:xfrm>
            <a:off x="8372520" y="4208400"/>
            <a:ext cx="601560" cy="2667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4788000" y="2906640"/>
            <a:ext cx="3848040" cy="3486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3651120" y="3500280"/>
            <a:ext cx="733680" cy="30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4124160" y="3819600"/>
            <a:ext cx="576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4859280" y="3868560"/>
            <a:ext cx="3384720" cy="532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>
            <a:off x="1662120" y="4776840"/>
            <a:ext cx="2233440" cy="720720"/>
          </a:xfrm>
          <a:prstGeom prst="wedgeRoundRectCallout">
            <a:avLst>
              <a:gd name="adj1" fmla="val 50143"/>
              <a:gd name="adj2" fmla="val -1693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點「進度查詢」鈕可查看核簽流程記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1187280" y="189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商查詢簽章進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2:08:37Z</dcterms:created>
  <dc:creator>000065469</dc:creator>
  <dc:description/>
  <dc:language>en-US</dc:language>
  <cp:lastModifiedBy>XD3300/黃鈺婷</cp:lastModifiedBy>
  <dcterms:modified xsi:type="dcterms:W3CDTF">2014-06-24T06:10:51Z</dcterms:modified>
  <cp:revision>59</cp:revision>
  <dc:subject/>
  <dc:title>投影片 1</dc:title>
</cp:coreProperties>
</file>