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271-7CB1-470A-A42F-6EFC61F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08-1325-4CE0-B952-4AF350D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503-4678-4079-997C-5A4F9CDD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117-25EF-403B-A3D7-E0D72A42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34B-367F-43E6-91DD-62CC2BAA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6BC-B943-41AB-B49A-3E3C2A80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34C-1B32-4615-B897-47EB404C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1A5-4E34-4695-846B-C7B1259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E6C-1E7B-44B5-8CE3-7FC6D483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4A6-A703-4A4E-924B-1894AF3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B89-E8E1-4315-832F-E6C5E0CB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5B8-ADF4-4DC3-8EA5-9E312BE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80A-E725-4F44-8566-1754FD2F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A0E-5F98-4AFD-A971-EAC358D6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24000" y="333360"/>
            <a:ext cx="82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電子簽章作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操作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4"/>
          <p:cNvSpPr/>
          <p:nvPr/>
        </p:nvSpPr>
        <p:spPr>
          <a:xfrm>
            <a:off x="900000" y="2205000"/>
            <a:ext cx="7201080" cy="115272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順序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台塑企業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甲方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/>
          <p:cNvSpPr/>
          <p:nvPr/>
        </p:nvSpPr>
        <p:spPr>
          <a:xfrm>
            <a:off x="900000" y="3573360"/>
            <a:ext cx="7201080" cy="792360"/>
          </a:xfrm>
          <a:prstGeom prst="flowChartAlternateProcess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約完成之查詢及列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900000" y="4581360"/>
            <a:ext cx="7201080" cy="79236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不同意採電子簽章或對內容有異議之作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7"/>
          <p:cNvSpPr/>
          <p:nvPr/>
        </p:nvSpPr>
        <p:spPr>
          <a:xfrm>
            <a:off x="900000" y="5661000"/>
            <a:ext cx="7201080" cy="79236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他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60B6-9181-4847-BF46-7F1BD7FC4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1"/>
          <a:stretch/>
        </p:blipFill>
        <p:spPr>
          <a:xfrm>
            <a:off x="108000" y="727200"/>
            <a:ext cx="7524720" cy="37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4788000" y="2906640"/>
            <a:ext cx="417168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9" descr=""/>
          <p:cNvPicPr/>
          <p:nvPr/>
        </p:nvPicPr>
        <p:blipFill>
          <a:blip r:embed="rId3"/>
          <a:stretch/>
        </p:blipFill>
        <p:spPr>
          <a:xfrm>
            <a:off x="8372520" y="4208400"/>
            <a:ext cx="601560" cy="266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4788000" y="2906640"/>
            <a:ext cx="417672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944880" y="3637080"/>
            <a:ext cx="73332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205160" y="3957480"/>
            <a:ext cx="57636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859280" y="3914640"/>
            <a:ext cx="35290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1835280" y="4903920"/>
            <a:ext cx="2233440" cy="720720"/>
          </a:xfrm>
          <a:prstGeom prst="wedgeRoundRectCallout">
            <a:avLst>
              <a:gd name="adj1" fmla="val 50143"/>
              <a:gd name="adj2" fmla="val -169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進度查詢」鈕可查看核簽流程記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簽章進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C2C-57FE-48E9-80E8-1D887370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加印雙方簽章記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24000" y="1644480"/>
            <a:ext cx="8067600" cy="444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AutoShape 5"/>
          <p:cNvSpPr/>
          <p:nvPr/>
        </p:nvSpPr>
        <p:spPr>
          <a:xfrm>
            <a:off x="466560" y="4021200"/>
            <a:ext cx="1873440" cy="936720"/>
          </a:xfrm>
          <a:prstGeom prst="wedgeRoundRectCallout">
            <a:avLst>
              <a:gd name="adj1" fmla="val 49745"/>
              <a:gd name="adj2" fmla="val -101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電腦自動產生「浮水印」，印出雙方簽章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979640" y="2581200"/>
            <a:ext cx="6481800" cy="9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291280" y="1716120"/>
            <a:ext cx="2954160" cy="36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372360" y="836640"/>
            <a:ext cx="2520720" cy="647640"/>
          </a:xfrm>
          <a:prstGeom prst="wedgeRoundRectCallout">
            <a:avLst>
              <a:gd name="adj1" fmla="val -50125"/>
              <a:gd name="adj2" fmla="val 835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電腦自動產生「浮水印」，印出雙方簽章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50920" y="836640"/>
            <a:ext cx="511308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台塑企業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甲方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亦執行簽章後，即完成雙方簽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2A3-6749-4D28-8E68-70D8ECCCB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267680" cy="4953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通知廠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0C85-C31B-48B7-B916-7FCDBE84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52440" y="1085760"/>
            <a:ext cx="8439120" cy="4686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90680" y="4379760"/>
            <a:ext cx="1547640" cy="24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及列印合約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484360" y="5157720"/>
            <a:ext cx="2374920" cy="1008000"/>
          </a:xfrm>
          <a:prstGeom prst="wedgeRoundRectCallout">
            <a:avLst>
              <a:gd name="adj1" fmla="val -63370"/>
              <a:gd name="adj2" fmla="val -91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廠商可於台塑網查詢及列印雙方已簽訂完成之合約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6FB1-307F-4675-A5DD-B4821E7E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40" y="1820880"/>
            <a:ext cx="9131400" cy="32637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8172360" y="3209760"/>
            <a:ext cx="73368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及列印合約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867280" y="4292640"/>
            <a:ext cx="2374920" cy="792000"/>
          </a:xfrm>
          <a:prstGeom prst="wedgeRoundRectCallout">
            <a:avLst>
              <a:gd name="adj1" fmla="val 57018"/>
              <a:gd name="adj2" fmla="val -1197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列印」可查看、列印或另存檔案保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5C7-8661-45A3-AB6E-126F8457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不同意採電子簽章或對內容有異議之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9640" y="1052640"/>
            <a:ext cx="3600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不同意採電子簽章方式簽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39640" y="1916280"/>
            <a:ext cx="3600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雙方對合約書內容有異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 rot="870600">
            <a:off x="4500720" y="1268280"/>
            <a:ext cx="1081080" cy="28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 rot="20448000">
            <a:off x="4500360" y="1916280"/>
            <a:ext cx="1081080" cy="28728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5867280" y="907920"/>
            <a:ext cx="2232000" cy="1513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維持書面用印方式簽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1835280" y="3398760"/>
            <a:ext cx="5914800" cy="334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Text Box 13"/>
          <p:cNvSpPr/>
          <p:nvPr/>
        </p:nvSpPr>
        <p:spPr>
          <a:xfrm>
            <a:off x="468360" y="278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另外，如果 貴公司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已採電子簽章後，台塑企業認合約內容尚有調整需求時，會自動對 貴公司發出通知，另採書面方式用印簽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DC73-2F63-4967-852A-89C4AC8CB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其他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24000" y="18522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貴公司現有之電子憑證即可進行合約書簽章，無須額外支出費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與現有雙方書面用印簽約方式併存， 貴公司可擇一方式採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子合約書係依政府頒佈之「電子簽章法」規定執行，具有法律效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訂生效後，可視需求查詢及列印電子合約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屬投資抵減用途者，合約書以外之相關投抵文件仍須於交貨後提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有訴訟需求而需針對合約書舉證時，可洽「關貿網路公司」出具證明文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醫材、藥品案件及長庚大學、長庚技術學院、明志科技大學案件暫不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合約採購訂約案及標售案暫不適用，後續會另安排上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32D-FECB-41C9-89E0-E7F9BEEE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1280" y="1012680"/>
            <a:ext cx="8964720" cy="5585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700360" y="1557360"/>
            <a:ext cx="7048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8000" y="2276640"/>
            <a:ext cx="86364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33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路徑一：從「訂單管理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訂購通知」進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4032360" cy="1296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2003400" y="2705040"/>
            <a:ext cx="2943360" cy="544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716360" y="3284640"/>
            <a:ext cx="57636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948360" y="5516640"/>
            <a:ext cx="1270080" cy="25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4284720" y="5950080"/>
            <a:ext cx="3166920" cy="647640"/>
          </a:xfrm>
          <a:prstGeom prst="wedgeRoundRectCallout">
            <a:avLst>
              <a:gd name="adj1" fmla="val 31152"/>
              <a:gd name="adj2" fmla="val -806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從該案之「訂購通知」之頁籤即可進入到該案合約書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3AE-1692-4BE8-A355-A0F3393A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179280" y="682560"/>
            <a:ext cx="7363080" cy="5915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2111400" y="2368440"/>
            <a:ext cx="3024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2400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路徑二：從「訂單管理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買賣合約書」進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852640" y="1268280"/>
            <a:ext cx="7048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17440" y="3405240"/>
            <a:ext cx="86364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539640" y="4119480"/>
            <a:ext cx="8496360" cy="2046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4" name="Rectangle 13"/>
          <p:cNvSpPr/>
          <p:nvPr/>
        </p:nvSpPr>
        <p:spPr>
          <a:xfrm>
            <a:off x="8575560" y="5354640"/>
            <a:ext cx="4572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5651640" y="6093000"/>
            <a:ext cx="2519280" cy="647640"/>
          </a:xfrm>
          <a:prstGeom prst="wedgeRoundRectCallout">
            <a:avLst>
              <a:gd name="adj1" fmla="val 68527"/>
              <a:gd name="adj2" fmla="val -90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按「檢視」進入該案合約書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3944880" y="2935440"/>
            <a:ext cx="57636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5C2-D246-4923-BE6F-0BA843A6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73080" y="836640"/>
            <a:ext cx="9036000" cy="5102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050920" y="2997360"/>
            <a:ext cx="590580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頁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419640" y="1700280"/>
            <a:ext cx="3024000" cy="647640"/>
          </a:xfrm>
          <a:prstGeom prst="wedgeRoundRectCallout">
            <a:avLst>
              <a:gd name="adj1" fmla="val -38291"/>
              <a:gd name="adj2" fmla="val 1455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擬採用電子簽章方式簽約，請依此區步驟執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468360" y="3284640"/>
            <a:ext cx="1297080" cy="647640"/>
          </a:xfrm>
          <a:prstGeom prst="wedgeRoundRectCallout">
            <a:avLst>
              <a:gd name="adj1" fmla="val 79254"/>
              <a:gd name="adj2" fmla="val -446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可先檢視合約書內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2"/>
          <a:stretch/>
        </p:blipFill>
        <p:spPr>
          <a:xfrm>
            <a:off x="3556080" y="4778280"/>
            <a:ext cx="2897280" cy="225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3419640" y="4764240"/>
            <a:ext cx="3097080" cy="249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6588000" y="5229360"/>
            <a:ext cx="1800360" cy="647640"/>
          </a:xfrm>
          <a:prstGeom prst="wedgeRoundRectCallout">
            <a:avLst>
              <a:gd name="adj1" fmla="val -57319"/>
              <a:gd name="adj2" fmla="val -92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投扺案可直接列印交貨簽收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圖片 5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784872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圖片 3" descr=""/>
          <p:cNvPicPr/>
          <p:nvPr/>
        </p:nvPicPr>
        <p:blipFill>
          <a:blip r:embed="rId2"/>
          <a:stretch/>
        </p:blipFill>
        <p:spPr>
          <a:xfrm>
            <a:off x="539640" y="708120"/>
            <a:ext cx="78487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646-496C-466F-AE8A-782C5C75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頁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332240" y="708120"/>
            <a:ext cx="3024360" cy="936360"/>
          </a:xfrm>
          <a:prstGeom prst="wedgeRoundRectCallout">
            <a:avLst>
              <a:gd name="adj1" fmla="val -56185"/>
              <a:gd name="adj2" fmla="val 9774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該合約為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最新版合約資料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則正常顯示［執行簽章］鈕，廠商可正常執行電子簽章作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4211640" y="3068640"/>
            <a:ext cx="4157640" cy="1116000"/>
          </a:xfrm>
          <a:prstGeom prst="wedgeRoundRectCallout">
            <a:avLst>
              <a:gd name="adj1" fmla="val -53342"/>
              <a:gd name="adj2" fmla="val 11722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該合約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並非為最新版合約資料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則不顯示［執行簽章］鈕．改顯示該筆訂單最新合約書通知日資訊，廠商須回清單頁點選該筆通知日之合約書資料，執行電子簽章作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40C-2585-4F60-9460-91A95CC5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21956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495680" cy="58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Rectangle 6"/>
          <p:cNvSpPr/>
          <p:nvPr/>
        </p:nvSpPr>
        <p:spPr>
          <a:xfrm>
            <a:off x="324000" y="765000"/>
            <a:ext cx="1223640" cy="338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08000" y="5699160"/>
            <a:ext cx="987480" cy="264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77080" y="5013360"/>
            <a:ext cx="1079640" cy="342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130400" y="5300640"/>
            <a:ext cx="5746680" cy="495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140360" y="2133720"/>
            <a:ext cx="2519280" cy="863640"/>
          </a:xfrm>
          <a:prstGeom prst="wedgeRoundRectCallout">
            <a:avLst>
              <a:gd name="adj1" fmla="val -160273"/>
              <a:gd name="adj2" fmla="val 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屬投資抵減案者，會出現確認投抵文件類別之畫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6588000" y="3141720"/>
            <a:ext cx="2374920" cy="647640"/>
          </a:xfrm>
          <a:prstGeom prst="wedgeRoundRectCallout">
            <a:avLst>
              <a:gd name="adj1" fmla="val -19921"/>
              <a:gd name="adj2" fmla="val 209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選擇並確認後，會出現「資料已確認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643280" y="18900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步驟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投抵案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確認投抵文件類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F08F-E1BD-4367-BE16-29326A650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08000" y="861840"/>
            <a:ext cx="8567640" cy="5591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160960" y="3678120"/>
            <a:ext cx="80640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5435640" y="3020760"/>
            <a:ext cx="720720" cy="63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6141960" y="2589120"/>
            <a:ext cx="2808360" cy="2552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41960" y="2589120"/>
            <a:ext cx="2822760" cy="256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3492360" y="4678200"/>
            <a:ext cx="2159280" cy="648000"/>
          </a:xfrm>
          <a:prstGeom prst="wedgeRoundRectCallout">
            <a:avLst>
              <a:gd name="adj1" fmla="val 58013"/>
              <a:gd name="adj2" fmla="val -1448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按「執行簽章」並選擇「統編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步驟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廠商執行簽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3F73-F22E-4508-BE9A-6421870A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51800" cy="3619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346480" y="2960640"/>
            <a:ext cx="80640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195640" y="3860640"/>
            <a:ext cx="2881080" cy="648000"/>
          </a:xfrm>
          <a:prstGeom prst="wedgeRoundRectCallout">
            <a:avLst>
              <a:gd name="adj1" fmla="val -24435"/>
              <a:gd name="adj2" fmla="val -134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出現「作業已完成」時，即代表廠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乙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已簽章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簽章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45FA-1849-4A4A-B06E-188FD821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94140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2340000" y="2236680"/>
            <a:ext cx="57636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556000" y="2525760"/>
            <a:ext cx="57600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203640" y="1579680"/>
            <a:ext cx="5892840" cy="451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289320" y="2473200"/>
            <a:ext cx="57636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900000" y="3821040"/>
            <a:ext cx="2233800" cy="1152720"/>
          </a:xfrm>
          <a:prstGeom prst="wedgeRoundRectCallout">
            <a:avLst>
              <a:gd name="adj1" fmla="val 28749"/>
              <a:gd name="adj2" fmla="val -126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另存檔案」可查看並另存檔案保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此時尚未完成簽約，甲方尚未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簽章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08:37Z</dcterms:created>
  <dc:creator>000065469</dc:creator>
  <dc:description/>
  <dc:language>en-US</dc:language>
  <cp:lastModifiedBy>XD3300/黃鈺婷</cp:lastModifiedBy>
  <dcterms:modified xsi:type="dcterms:W3CDTF">2014-06-24T06:05:50Z</dcterms:modified>
  <cp:revision>41</cp:revision>
  <dc:subject/>
  <dc:title>投影片 1</dc:title>
</cp:coreProperties>
</file>