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763-CEAA-4963-8010-B940EDE9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F54-3A5F-4E18-BBC8-3B3EB036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83F-7272-46F2-858C-8C05B71D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1A9-B4D7-45E2-8D8B-A9C168AB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D26-C6C7-4FAB-A5F3-C6FA77B4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E46-91A7-4E78-894E-1CA1FFC2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7E1-B980-4370-B67E-9F1F0BE4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E05-BFC8-4B81-A1F3-BF657BA3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E20-E8C9-4BA4-A347-5EF30B49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BCF-89CD-4B5D-9001-7A8F301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81A-6F4F-4D6E-8611-485EAF13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1E1-2504-414F-BB47-62CE7D0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.</a:t>
            </a:r>
            <a:fld id="{88241567-3B45-4F8B-9A34-2A132A0B0A5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投影片編號版面配置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.</a:t>
            </a:r>
            <a:fld id="{A2B66475-41D4-4132-846E-1DD8F9F941E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22320" y="549360"/>
            <a:ext cx="909936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92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台塑電子商務」平台取消功能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1/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268360" y="4149720"/>
            <a:ext cx="6302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工作安全許可」核准後以電子郵件通知廠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廠商因故無法出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藉由郵件中連接進入「台塑電子商務」平台申請取消施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771640" y="1628640"/>
            <a:ext cx="5832720" cy="86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372360" y="5992920"/>
            <a:ext cx="2303280" cy="460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11"/>
          <p:cNvSpPr/>
          <p:nvPr/>
        </p:nvSpPr>
        <p:spPr>
          <a:xfrm>
            <a:off x="2556000" y="1413000"/>
            <a:ext cx="431640" cy="43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6084720" y="5877000"/>
            <a:ext cx="432000" cy="43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投影片編號版面配置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.</a:t>
            </a:r>
            <a:fld id="{B4DFEBCB-FE06-4183-ACFD-ACFAF1CD5D9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rcRect l="0" t="0" r="0" b="6930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92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台塑電子商務」平台取消功能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2/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268360" y="3357720"/>
            <a:ext cx="630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亦可直接由台塑關係企業網頁首頁進入「台塑電子商務」平台後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輸入帳號及密碼登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2637000"/>
            <a:ext cx="161928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.</a:t>
            </a:r>
            <a:fld id="{146C4030-E392-4F0C-B683-B64277DA02B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0" t="0" r="0" b="6930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92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台塑電子商務」平台取消功能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3/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427640" y="1341360"/>
            <a:ext cx="93636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5661000"/>
            <a:ext cx="1979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9"/>
          <p:cNvSpPr/>
          <p:nvPr/>
        </p:nvSpPr>
        <p:spPr>
          <a:xfrm>
            <a:off x="4211640" y="1052640"/>
            <a:ext cx="431640" cy="43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0" y="5300640"/>
            <a:ext cx="431640" cy="432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268360" y="2422440"/>
            <a:ext cx="640728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2195640" y="3500280"/>
            <a:ext cx="431640" cy="432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411280" y="4581360"/>
            <a:ext cx="6302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選擇「出入廠申請」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→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申請取消麥寮公共管線工作安全許可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輸入篩選條件後點選「開始搜尋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投影片編號版面配置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.</a:t>
            </a:r>
            <a:fld id="{E8583BA5-3151-4A41-96E8-7D9FCDCADF6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1"/>
          <a:srcRect l="0" t="0" r="0" b="5922"/>
          <a:stretch/>
        </p:blipFill>
        <p:spPr>
          <a:xfrm>
            <a:off x="0" y="0"/>
            <a:ext cx="9144000" cy="64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92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台塑電子商務」平台取消功能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4/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7956720" y="4078440"/>
            <a:ext cx="718920" cy="50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547640" y="5229360"/>
            <a:ext cx="662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顯示此廠商所有尚未施工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〔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大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於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含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系統日〕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之案件，針對要取消施工之案件點選「下一步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6"/>
          <p:cNvSpPr/>
          <p:nvPr/>
        </p:nvSpPr>
        <p:spPr>
          <a:xfrm>
            <a:off x="7667640" y="3789360"/>
            <a:ext cx="431640" cy="43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投影片編號版面配置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.</a:t>
            </a:r>
            <a:fld id="{78D3B33A-D480-4636-880D-A509DE8D8D6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0" t="0" r="0" b="6930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92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台塑電子商務」平台取消功能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5/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547640" y="4292640"/>
            <a:ext cx="58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標楷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輸入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取消說明」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勾選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取消申請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輸入完畢後點選「存檔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284720" y="3016080"/>
            <a:ext cx="345600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268360" y="5950080"/>
            <a:ext cx="57492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4140360" y="2637000"/>
            <a:ext cx="431640" cy="43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1979640" y="5589720"/>
            <a:ext cx="431640" cy="431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投影片編號版面配置區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.</a:t>
            </a:r>
            <a:fld id="{2BE70FE4-548F-4536-AC0A-2EAC9EBA35B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92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台塑電子商務」平台取消功能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6/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268360" y="4508640"/>
            <a:ext cx="6120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存檔後案件批次回傳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ERP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再轉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予工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施工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部門，經二級主管同意後則取消施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D3300/薛傑仁</dc:creator>
  <dc:description/>
  <dc:language>en-US</dc:language>
  <cp:lastModifiedBy>XD3300/薛傑仁</cp:lastModifiedBy>
  <dcterms:modified xsi:type="dcterms:W3CDTF">2012-08-07T03:21:38Z</dcterms:modified>
  <cp:revision>89</cp:revision>
  <dc:subject/>
  <dc:title>PowerPoint Presentation</dc:title>
</cp:coreProperties>
</file>